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719B-2918-48EB-8010-B0B5D6CC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D290-36EC-40D0-BF95-B9D3E93D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A4C15-EAD5-4D3F-8658-85982241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47DF2-E1CF-40BB-86BF-67005F49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8E1EA-353E-44D9-9C41-D041B8AC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CB5D0-845F-459D-9903-DCD380E6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33C22-B3AB-4113-82DD-EB45A8B6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C33B6-8A55-45C6-A3E4-A53FDBB1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73D66-53B1-4EA0-A186-C624DEB5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8702B-7FFB-42B5-8A33-8D69BE65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E7022-B094-418B-82A8-6AE90269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A57C0C-8082-47B1-BF7D-1407BB13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EE8D-9C6E-4310-8523-20BBDDD2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5FD5C5-D758-4233-8BA7-304182F5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256AD8-D16D-4D92-9186-71049EB8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9A3733-6AB7-4408-A7EE-7B5FD055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75818D-ED18-4D78-AC4F-EDA63EDD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E0F6BA-E1B8-49E7-A2DA-B15B119E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E6EFC1-EE3B-485E-AEA6-A6CA8061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0F282C-2DDA-46C8-BD83-EA078FFD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606622-9644-4C43-B758-0DCD4499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49517A-A7ED-4F85-8846-11369BD5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2CF400-101B-489A-A813-CCC42B9D3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5B9C-1008-4EE8-AAD5-FB702E5B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B8E4EF-03D1-4924-8082-264E8C81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E0F0C-CE65-45F9-AD15-F829EAB7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FD473-632C-47BE-976B-CCB2FB07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25345-F6A3-4C38-8EBE-209506C7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B463E-F5D4-4910-9DEC-07E89549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C6D12-1B15-4772-915D-D71A49D8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EBF9C-296D-49B3-BD7B-EFC8C453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B4DBF-D2A7-480D-B310-E0D2C591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BEE52-3453-4E5B-AE86-320B2EF2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A3406-789C-436F-B43F-C8189C9D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1A02-F065-4557-9036-BF7F8D23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0934A-F666-48AE-A5D9-9B6A25D0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A8841-C7B8-4699-B0E1-162F3E7D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5DE98-497F-40B2-8E81-1A8D110F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56FA5-7607-42D8-8C8B-D634E70C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449BE-1938-4018-AEC0-E6D0DD00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167D1-1AAD-450C-AA50-CA2C62B6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21595-54A4-4236-83A3-4077B98D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B5132-8B97-4253-9577-D13E0E0C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27426-7FC4-4291-A07F-816C0D64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0838A-B388-4E9C-8DDB-DBEC4441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2BC3-5FD0-4E1D-B85E-E1BECB14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4C82D-9CF9-43EB-996E-373438DA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72C9B-F13F-4D0F-BD3F-1FB62A59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5E05F-872E-49A1-BC7C-24A5F130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3CD15-3392-427E-95C6-D66D29E3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E9682-20A8-4348-A701-0BD038A6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0A06-FA99-4426-A913-B9542F31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3223-D321-4345-B22E-735F156A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4BBB-8EE2-4995-A4C8-BB133055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2C21-C42F-4187-93F8-785E8F0B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AF18-BCCA-4EEE-BA11-619FE638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6FD2-32FD-4AB6-92E4-8094E916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FCDA-51C2-4B86-AD26-C6C3D9DC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3AF9-FFD4-4A26-9AB3-C3D2EA54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0846-DEFB-49B7-AD71-A5078F98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DFF2-1D86-4027-BF75-C368C5C2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20D1-FAFB-40A9-985F-5EF4C62E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B2965-9786-44D0-81F0-59F9AC34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A8D32-32E3-4E4B-BF58-20EF5C77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94030-C0D6-425C-A023-81B3CD95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B43F3-34B9-4221-88D7-1E824607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D1D18-1087-43D4-B4EE-680F12A1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71ED-D2BF-4B8E-87BE-B2CEE136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D6541-8932-48D8-8D12-FC23556E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45F6D-A6B6-406B-A417-0DFA24A4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2FE44-FE7E-4BCE-8F9B-6AFCC659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11041-876A-48C7-B2CA-F7E6CE0A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78F76-B3E3-4E31-8FE5-94538EF5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37DDA-B722-490B-BF0B-45A2619A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EABA3-0DB4-491B-9A40-BB9D5821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7DB31C-F0B0-4844-91DB-6923893D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166C4D-3B03-46BA-895D-41CF871E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4D5A6C-9C18-4E23-8157-D6E088AC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755-10D7-4118-93E4-16A47E85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72BA37-3B54-4782-9AF9-D09FF4FB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A82187-AEEC-4C62-8EE8-6652C2D5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C06C13-2E77-4673-B7BB-EC0963B3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685E08-94CF-4D5B-BEC6-16B5DFC4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3CA202-319F-48F4-9548-658DDF01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8D64E9-2656-4E92-A6CD-DEC6E0D2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DF9A30-8CC1-4FA1-BCA9-0F85B2FA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8556E3-9923-467C-B843-236D0874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82624C-0A4F-49AD-9E32-D12A3591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B8FC2E-8E77-40E9-9305-7B55654F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07B4-CEF8-4401-8522-B9396624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7A6964-87FD-453C-8C6B-4C766603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495866-90E8-4D76-B492-53E2F17F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3D2DD6-8B89-43B5-92C5-6872761A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E9A6EC-0823-459B-95E6-D03CFE24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A175B3-405A-4146-9486-E79DE192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7EAE2A-4130-422E-8088-2C3DFB41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168AEE-F630-44FF-82B2-435BEBF0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B820D5-289D-4740-969C-BD631B9C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121B03-DC75-4958-BEF7-4F623835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BE3318-8B6E-4917-B0CE-4FDC4714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259B-1D75-49BB-A081-013C903C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D27540-F5C5-4BF0-9E0F-2C58259A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14C276-7A47-46CF-86E3-9AE6A598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60C3D8-06D1-4394-BE15-1E96EE2E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DCB186-F0CF-4B2B-8DF6-55531A8D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7163CD-8728-4FE7-8428-D46BB190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FD6033-23DE-45C8-B2FB-8F4543A2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BACAE7-51B9-40A8-9A9D-64CB8C32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BC6582-4FA9-46D5-95B2-0634544B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75CA9E-E12E-4FC3-827D-CFC9647D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B5CC68-94E4-4B0B-9C1D-49958A5E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585B-36E7-4E4D-B319-265FDE79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962A4E-CEFA-4C17-A0A8-8B8DB081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D232FA-4574-4789-B925-A6AB6AAF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518E42-3CFF-4C13-8FFD-54D7C6E2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97934-99B8-498E-8906-34095DF6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0026F-2B49-4C13-84B2-1CC96EC9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11E89-0B0B-4C11-8ACB-80FE8A46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47B9F-DF89-4A67-B15B-FE30352E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D3615-1EBF-4056-9771-B2121027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1E9A3-5446-4A5A-B32B-1BEF398B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5E364-DAC7-4A16-BDDC-8A6E96BB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DEDD-7099-43CE-ABCC-8D1FFDE8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B0867-CE75-4E66-A49E-6901C6B2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2BB60-6148-4916-A525-1450FFC9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E16EB-B15C-44C7-BA44-0EC96D57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23AD5-0E0F-4A58-865E-01C0B36C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320AB-3E1C-4E90-9683-39441880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FA772-D5AB-44C8-8F23-2E7DF44D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82BAF-579A-48F2-B10B-D2FE764F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765B0-E1CE-4202-AF3E-6E756458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BA127-A351-47A2-A162-3E5AC457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C7868-4881-429B-9317-E60657FB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AD91-02E7-4333-A919-9EA0D5BB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650B4-5AB3-497F-B822-6F7954BF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A0712-C744-40FC-AE34-3E606E91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AEB8A-F399-4EC4-A9D1-8F47832A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D97AB-6A52-417A-AEB1-8C6CA807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226B9-E8F3-4314-8487-1A74B2B8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D7672-CA67-4694-B80F-92844164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E4F00-974B-4A6A-BCC7-8B649FB8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0565A-8190-4A43-B768-F37CEAD6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055E7-3746-4889-AAE2-E43A244A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8974D-52CE-412D-9919-84A0226C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667D-04C9-46B8-ADDD-9038093A918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44A7-C0D0-47CD-B8A2-877604A65827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F8E6-B069-4FF0-9125-E2072B630DC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22EC-049B-44F0-8B4C-B9623A89E3D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38D9-0ED3-46A0-975D-BB5AFD3C12F0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1D2A-8505-4437-AE19-685DBE1D9C5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E4F2-F404-4EB9-AFC7-15207D61864F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B13A-E29F-4367-B1C8-00CCAD81590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CA78-E6AC-4269-899E-0FA4C1BE66A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5276-E8C2-463B-83AA-4E20AFF7857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B39D-2731-4708-A293-F0784288F23F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FDF5-22F3-4784-8800-A9841E723D6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HAPTER 12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DNA Technology and Genomic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12720" y="666360"/>
            <a:ext cx="81532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tools used to make recombinant DNA ar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 u="sng">
                <a:solidFill>
                  <a:srgbClr val="000000"/>
                </a:solidFill>
                <a:uFillTx/>
                <a:latin typeface="Tw Cen MT"/>
              </a:rPr>
              <a:t>Restriction enzymes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, which cut DNA at specific sequenc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DNA ligase, which “pastes” DNA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restrictive fragments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ogeth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2.3 Genes can be cloned in recombinant plasmids: A closer loo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acteria take the recombinant plasmids from their surrounding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And reproduce, thereby cloning the plasmids and the genes they carr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oning a gene in a bacterial plasmid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6" descr="&#13;12_03_3_U.jpg                                                  0051B33B_x0003_203                            BE738D99:"/>
          <p:cNvPicPr/>
          <p:nvPr/>
        </p:nvPicPr>
        <p:blipFill>
          <a:blip r:embed="rId1"/>
          <a:stretch/>
        </p:blipFill>
        <p:spPr>
          <a:xfrm>
            <a:off x="2638440" y="1282680"/>
            <a:ext cx="2816280" cy="5122800"/>
          </a:xfrm>
          <a:prstGeom prst="rect">
            <a:avLst/>
          </a:prstGeom>
          <a:ln w="0">
            <a:noFill/>
          </a:ln>
        </p:spPr>
      </p:pic>
      <p:grpSp>
        <p:nvGrpSpPr>
          <p:cNvPr id="628" name="Group 34"/>
          <p:cNvGrpSpPr/>
          <p:nvPr/>
        </p:nvGrpSpPr>
        <p:grpSpPr>
          <a:xfrm>
            <a:off x="3632400" y="1306440"/>
            <a:ext cx="986400" cy="307080"/>
            <a:chOff x="3632400" y="1306440"/>
            <a:chExt cx="986400" cy="307080"/>
          </a:xfrm>
        </p:grpSpPr>
        <p:sp>
          <p:nvSpPr>
            <p:cNvPr id="629" name="Rectangle 7"/>
            <p:cNvSpPr/>
            <p:nvPr/>
          </p:nvSpPr>
          <p:spPr>
            <a:xfrm>
              <a:off x="3632400" y="139716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13"/>
            <p:cNvSpPr/>
            <p:nvPr/>
          </p:nvSpPr>
          <p:spPr>
            <a:xfrm>
              <a:off x="3769200" y="1306440"/>
              <a:ext cx="84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olate DNA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rom two sourc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35"/>
          <p:cNvGrpSpPr/>
          <p:nvPr/>
        </p:nvGrpSpPr>
        <p:grpSpPr>
          <a:xfrm>
            <a:off x="3637080" y="1571760"/>
            <a:ext cx="1023840" cy="413640"/>
            <a:chOff x="3637080" y="1571760"/>
            <a:chExt cx="1023840" cy="413640"/>
          </a:xfrm>
        </p:grpSpPr>
        <p:sp>
          <p:nvSpPr>
            <p:cNvPr id="632" name="Rectangle 8"/>
            <p:cNvSpPr/>
            <p:nvPr/>
          </p:nvSpPr>
          <p:spPr>
            <a:xfrm>
              <a:off x="3637080" y="164160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14"/>
            <p:cNvSpPr/>
            <p:nvPr/>
          </p:nvSpPr>
          <p:spPr>
            <a:xfrm>
              <a:off x="3767040" y="1571760"/>
              <a:ext cx="8938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ut both DNAs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ith the same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striction enzym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Rectangle 15"/>
          <p:cNvSpPr/>
          <p:nvPr/>
        </p:nvSpPr>
        <p:spPr>
          <a:xfrm>
            <a:off x="2976480" y="1260360"/>
            <a:ext cx="397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E.col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6"/>
          <p:cNvSpPr/>
          <p:nvPr/>
        </p:nvSpPr>
        <p:spPr>
          <a:xfrm>
            <a:off x="2934000" y="1901880"/>
            <a:ext cx="494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lasm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7"/>
          <p:cNvSpPr/>
          <p:nvPr/>
        </p:nvSpPr>
        <p:spPr>
          <a:xfrm flipH="1">
            <a:off x="3162240" y="1679400"/>
            <a:ext cx="131760" cy="266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8"/>
          <p:cNvSpPr/>
          <p:nvPr/>
        </p:nvSpPr>
        <p:spPr>
          <a:xfrm>
            <a:off x="4965840" y="1736640"/>
            <a:ext cx="101520" cy="26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9"/>
          <p:cNvSpPr/>
          <p:nvPr/>
        </p:nvSpPr>
        <p:spPr>
          <a:xfrm>
            <a:off x="4964760" y="1971720"/>
            <a:ext cx="36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20"/>
          <p:cNvSpPr/>
          <p:nvPr/>
        </p:nvSpPr>
        <p:spPr>
          <a:xfrm>
            <a:off x="4476600" y="2152800"/>
            <a:ext cx="479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ene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V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21"/>
          <p:cNvSpPr/>
          <p:nvPr/>
        </p:nvSpPr>
        <p:spPr>
          <a:xfrm>
            <a:off x="4030560" y="2189160"/>
            <a:ext cx="27648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22"/>
          <p:cNvSpPr/>
          <p:nvPr/>
        </p:nvSpPr>
        <p:spPr>
          <a:xfrm flipH="1">
            <a:off x="4300560" y="2108160"/>
            <a:ext cx="279360" cy="295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23"/>
          <p:cNvSpPr/>
          <p:nvPr/>
        </p:nvSpPr>
        <p:spPr>
          <a:xfrm>
            <a:off x="4054320" y="2373480"/>
            <a:ext cx="631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icky end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Group 36"/>
          <p:cNvGrpSpPr/>
          <p:nvPr/>
        </p:nvGrpSpPr>
        <p:grpSpPr>
          <a:xfrm>
            <a:off x="4064400" y="2513160"/>
            <a:ext cx="925920" cy="413640"/>
            <a:chOff x="4064400" y="2513160"/>
            <a:chExt cx="925920" cy="413640"/>
          </a:xfrm>
        </p:grpSpPr>
        <p:sp>
          <p:nvSpPr>
            <p:cNvPr id="644" name="Rectangle 9"/>
            <p:cNvSpPr/>
            <p:nvPr/>
          </p:nvSpPr>
          <p:spPr>
            <a:xfrm>
              <a:off x="4064400" y="251316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24"/>
            <p:cNvSpPr/>
            <p:nvPr/>
          </p:nvSpPr>
          <p:spPr>
            <a:xfrm>
              <a:off x="4245840" y="2513160"/>
              <a:ext cx="7444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ix the DNAs;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y join by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ase-pair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37"/>
          <p:cNvGrpSpPr/>
          <p:nvPr/>
        </p:nvGrpSpPr>
        <p:grpSpPr>
          <a:xfrm>
            <a:off x="4064400" y="3559320"/>
            <a:ext cx="1431360" cy="315000"/>
            <a:chOff x="4064400" y="3559320"/>
            <a:chExt cx="1431360" cy="315000"/>
          </a:xfrm>
        </p:grpSpPr>
        <p:sp>
          <p:nvSpPr>
            <p:cNvPr id="647" name="Rectangle 10"/>
            <p:cNvSpPr/>
            <p:nvPr/>
          </p:nvSpPr>
          <p:spPr>
            <a:xfrm>
              <a:off x="4064400" y="355932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25"/>
            <p:cNvSpPr/>
            <p:nvPr/>
          </p:nvSpPr>
          <p:spPr>
            <a:xfrm>
              <a:off x="4248360" y="3567240"/>
              <a:ext cx="124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dd DNA ligase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o bond the DNA covalentl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38"/>
          <p:cNvGrpSpPr/>
          <p:nvPr/>
        </p:nvGrpSpPr>
        <p:grpSpPr>
          <a:xfrm>
            <a:off x="4064400" y="4572000"/>
            <a:ext cx="1403280" cy="311760"/>
            <a:chOff x="4064400" y="4572000"/>
            <a:chExt cx="1403280" cy="311760"/>
          </a:xfrm>
        </p:grpSpPr>
        <p:sp>
          <p:nvSpPr>
            <p:cNvPr id="650" name="Rectangle 11"/>
            <p:cNvSpPr/>
            <p:nvPr/>
          </p:nvSpPr>
          <p:spPr>
            <a:xfrm>
              <a:off x="4064400" y="457200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26"/>
            <p:cNvSpPr/>
            <p:nvPr/>
          </p:nvSpPr>
          <p:spPr>
            <a:xfrm>
              <a:off x="4250520" y="4576680"/>
              <a:ext cx="121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ut plasmid into bacterium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y transform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Rectangle 27"/>
          <p:cNvSpPr/>
          <p:nvPr/>
        </p:nvSpPr>
        <p:spPr>
          <a:xfrm>
            <a:off x="4508280" y="4114800"/>
            <a:ext cx="479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ene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V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28"/>
          <p:cNvSpPr/>
          <p:nvPr/>
        </p:nvSpPr>
        <p:spPr>
          <a:xfrm>
            <a:off x="4322880" y="4216320"/>
            <a:ext cx="210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9"/>
          <p:cNvSpPr/>
          <p:nvPr/>
        </p:nvSpPr>
        <p:spPr>
          <a:xfrm>
            <a:off x="2779920" y="4125960"/>
            <a:ext cx="91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combinant DNA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lasm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30"/>
          <p:cNvSpPr/>
          <p:nvPr/>
        </p:nvSpPr>
        <p:spPr>
          <a:xfrm>
            <a:off x="2777760" y="496728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combinant 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acteri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Group 39"/>
          <p:cNvGrpSpPr/>
          <p:nvPr/>
        </p:nvGrpSpPr>
        <p:grpSpPr>
          <a:xfrm>
            <a:off x="4062600" y="5246640"/>
            <a:ext cx="1155600" cy="202320"/>
            <a:chOff x="4062600" y="5246640"/>
            <a:chExt cx="1155600" cy="202320"/>
          </a:xfrm>
        </p:grpSpPr>
        <p:sp>
          <p:nvSpPr>
            <p:cNvPr id="657" name="Rectangle 12"/>
            <p:cNvSpPr/>
            <p:nvPr/>
          </p:nvSpPr>
          <p:spPr>
            <a:xfrm>
              <a:off x="4062600" y="524664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31"/>
            <p:cNvSpPr/>
            <p:nvPr/>
          </p:nvSpPr>
          <p:spPr>
            <a:xfrm>
              <a:off x="4251240" y="5248440"/>
              <a:ext cx="966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one the bacteriu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Rectangle 32"/>
          <p:cNvSpPr/>
          <p:nvPr/>
        </p:nvSpPr>
        <p:spPr>
          <a:xfrm>
            <a:off x="3594960" y="6240600"/>
            <a:ext cx="13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acterial clone carrying many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pies of the human ge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33"/>
          <p:cNvSpPr/>
          <p:nvPr/>
        </p:nvSpPr>
        <p:spPr>
          <a:xfrm>
            <a:off x="4622400" y="1260360"/>
            <a:ext cx="621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uman cel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40"/>
          <p:cNvSpPr/>
          <p:nvPr/>
        </p:nvSpPr>
        <p:spPr>
          <a:xfrm>
            <a:off x="1241640" y="609120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12.4 Cloned genes can be stored in genomic librari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enomic libraries, sets of DNA fragments containing all of an organism’s gen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an be constructed and stored in cloned bacterial plasmids or phag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23"/>
          <p:cNvGrpSpPr/>
          <p:nvPr/>
        </p:nvGrpSpPr>
        <p:grpSpPr>
          <a:xfrm>
            <a:off x="2962080" y="3855960"/>
            <a:ext cx="3369240" cy="2575800"/>
            <a:chOff x="2962080" y="3855960"/>
            <a:chExt cx="3369240" cy="2575800"/>
          </a:xfrm>
        </p:grpSpPr>
        <p:pic>
          <p:nvPicPr>
            <p:cNvPr id="666" name="Picture 6" descr="_x000b_12_04_U.jpg                                                    0051B33B_x0003_203                            BE738D99:"/>
            <p:cNvPicPr/>
            <p:nvPr/>
          </p:nvPicPr>
          <p:blipFill>
            <a:blip r:embed="rId1"/>
            <a:stretch/>
          </p:blipFill>
          <p:spPr>
            <a:xfrm>
              <a:off x="2994120" y="3911760"/>
              <a:ext cx="3087720" cy="23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Rectangle 7"/>
            <p:cNvSpPr/>
            <p:nvPr/>
          </p:nvSpPr>
          <p:spPr>
            <a:xfrm>
              <a:off x="3201840" y="3916440"/>
              <a:ext cx="8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mbinant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lasmi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8"/>
            <p:cNvSpPr/>
            <p:nvPr/>
          </p:nvSpPr>
          <p:spPr>
            <a:xfrm>
              <a:off x="3591000" y="4272120"/>
              <a:ext cx="0" cy="19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9"/>
            <p:cNvSpPr/>
            <p:nvPr/>
          </p:nvSpPr>
          <p:spPr>
            <a:xfrm>
              <a:off x="5006160" y="3855960"/>
              <a:ext cx="120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ome cut up with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striction enzy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0"/>
            <p:cNvSpPr/>
            <p:nvPr/>
          </p:nvSpPr>
          <p:spPr>
            <a:xfrm>
              <a:off x="5473800" y="4183200"/>
              <a:ext cx="8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mbinant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hage DN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11"/>
            <p:cNvSpPr/>
            <p:nvPr/>
          </p:nvSpPr>
          <p:spPr>
            <a:xfrm>
              <a:off x="5705640" y="4521240"/>
              <a:ext cx="18072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12"/>
            <p:cNvSpPr/>
            <p:nvPr/>
          </p:nvSpPr>
          <p:spPr>
            <a:xfrm>
              <a:off x="4590720" y="4503600"/>
              <a:ext cx="28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3"/>
            <p:cNvSpPr/>
            <p:nvPr/>
          </p:nvSpPr>
          <p:spPr>
            <a:xfrm>
              <a:off x="3832200" y="5792760"/>
              <a:ext cx="6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cteri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lo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4"/>
            <p:cNvSpPr/>
            <p:nvPr/>
          </p:nvSpPr>
          <p:spPr>
            <a:xfrm>
              <a:off x="4845600" y="5754600"/>
              <a:ext cx="51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hage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lo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5"/>
            <p:cNvSpPr/>
            <p:nvPr/>
          </p:nvSpPr>
          <p:spPr>
            <a:xfrm>
              <a:off x="5203800" y="6188040"/>
              <a:ext cx="907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hage libra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6"/>
            <p:cNvSpPr/>
            <p:nvPr/>
          </p:nvSpPr>
          <p:spPr>
            <a:xfrm>
              <a:off x="2962080" y="6200640"/>
              <a:ext cx="1003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lasmid libra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AutoShape 17"/>
            <p:cNvSpPr/>
            <p:nvPr/>
          </p:nvSpPr>
          <p:spPr>
            <a:xfrm>
              <a:off x="3805200" y="5684760"/>
              <a:ext cx="76320" cy="47628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2240 h 476280"/>
                <a:gd name="textAreaBottom" fmla="*/ 464040 h 4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AutoShape 18"/>
            <p:cNvSpPr/>
            <p:nvPr/>
          </p:nvSpPr>
          <p:spPr>
            <a:xfrm rot="10800000">
              <a:off x="5298840" y="5667480"/>
              <a:ext cx="75960" cy="4125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0440 h 412560"/>
                <a:gd name="textAreaBottom" fmla="*/ 402120 h 41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Text Box 21"/>
          <p:cNvSpPr/>
          <p:nvPr/>
        </p:nvSpPr>
        <p:spPr>
          <a:xfrm>
            <a:off x="1863720" y="616752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2.5 Reverse transcriptase helps make genes for cloni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812880" indent="-3175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verse transcriptase can be used to make smaller, complementary DNA (cDNA) librar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854360" indent="-559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taining only the genes that are transcribed by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  a particular type of cel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23" descr="_x000b_12_05_U.jpg                                                    0051B33B_x0003_203                            BE738D99:"/>
          <p:cNvPicPr/>
          <p:nvPr/>
        </p:nvPicPr>
        <p:blipFill>
          <a:blip r:embed="rId1"/>
          <a:stretch/>
        </p:blipFill>
        <p:spPr>
          <a:xfrm>
            <a:off x="3241800" y="3327480"/>
            <a:ext cx="2682720" cy="307008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24"/>
          <p:cNvSpPr/>
          <p:nvPr/>
        </p:nvSpPr>
        <p:spPr>
          <a:xfrm>
            <a:off x="3359520" y="3448080"/>
            <a:ext cx="69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ell nucleu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25"/>
          <p:cNvSpPr/>
          <p:nvPr/>
        </p:nvSpPr>
        <p:spPr>
          <a:xfrm>
            <a:off x="3485160" y="3646440"/>
            <a:ext cx="581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NA of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ukaryotic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26"/>
          <p:cNvSpPr/>
          <p:nvPr/>
        </p:nvSpPr>
        <p:spPr>
          <a:xfrm>
            <a:off x="3935520" y="3622680"/>
            <a:ext cx="381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27"/>
          <p:cNvSpPr/>
          <p:nvPr/>
        </p:nvSpPr>
        <p:spPr>
          <a:xfrm>
            <a:off x="4172760" y="3614760"/>
            <a:ext cx="404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r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28"/>
          <p:cNvSpPr/>
          <p:nvPr/>
        </p:nvSpPr>
        <p:spPr>
          <a:xfrm>
            <a:off x="4489560" y="3606840"/>
            <a:ext cx="381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29"/>
          <p:cNvSpPr/>
          <p:nvPr/>
        </p:nvSpPr>
        <p:spPr>
          <a:xfrm>
            <a:off x="4791960" y="3614760"/>
            <a:ext cx="404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r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30"/>
          <p:cNvSpPr/>
          <p:nvPr/>
        </p:nvSpPr>
        <p:spPr>
          <a:xfrm>
            <a:off x="5070600" y="3611520"/>
            <a:ext cx="381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Group 57"/>
          <p:cNvGrpSpPr/>
          <p:nvPr/>
        </p:nvGrpSpPr>
        <p:grpSpPr>
          <a:xfrm>
            <a:off x="4646520" y="3902040"/>
            <a:ext cx="735120" cy="185400"/>
            <a:chOff x="4646520" y="3902040"/>
            <a:chExt cx="735120" cy="185400"/>
          </a:xfrm>
        </p:grpSpPr>
        <p:sp>
          <p:nvSpPr>
            <p:cNvPr id="692" name="Rectangle 31"/>
            <p:cNvSpPr/>
            <p:nvPr/>
          </p:nvSpPr>
          <p:spPr>
            <a:xfrm>
              <a:off x="4646520" y="390204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36"/>
            <p:cNvSpPr/>
            <p:nvPr/>
          </p:nvSpPr>
          <p:spPr>
            <a:xfrm>
              <a:off x="4757400" y="3902040"/>
              <a:ext cx="624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ranscrip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58"/>
          <p:cNvGrpSpPr/>
          <p:nvPr/>
        </p:nvGrpSpPr>
        <p:grpSpPr>
          <a:xfrm>
            <a:off x="4656240" y="4267080"/>
            <a:ext cx="883440" cy="278640"/>
            <a:chOff x="4656240" y="4267080"/>
            <a:chExt cx="883440" cy="278640"/>
          </a:xfrm>
        </p:grpSpPr>
        <p:sp>
          <p:nvSpPr>
            <p:cNvPr id="695" name="Rectangle 32"/>
            <p:cNvSpPr/>
            <p:nvPr/>
          </p:nvSpPr>
          <p:spPr>
            <a:xfrm>
              <a:off x="4656240" y="426708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37"/>
            <p:cNvSpPr/>
            <p:nvPr/>
          </p:nvSpPr>
          <p:spPr>
            <a:xfrm>
              <a:off x="4761720" y="4268880"/>
              <a:ext cx="7779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NA splicing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(removes introns)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51"/>
          <p:cNvGrpSpPr/>
          <p:nvPr/>
        </p:nvGrpSpPr>
        <p:grpSpPr>
          <a:xfrm>
            <a:off x="4656240" y="4892760"/>
            <a:ext cx="1092600" cy="459720"/>
            <a:chOff x="4656240" y="4892760"/>
            <a:chExt cx="1092600" cy="459720"/>
          </a:xfrm>
        </p:grpSpPr>
        <p:sp>
          <p:nvSpPr>
            <p:cNvPr id="698" name="Rectangle 33"/>
            <p:cNvSpPr/>
            <p:nvPr/>
          </p:nvSpPr>
          <p:spPr>
            <a:xfrm>
              <a:off x="4656240" y="490392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38"/>
            <p:cNvSpPr/>
            <p:nvPr/>
          </p:nvSpPr>
          <p:spPr>
            <a:xfrm>
              <a:off x="4745160" y="4892760"/>
              <a:ext cx="100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solation of mRNA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rom cell and addition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f reverse transcriptase;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ynthesis of DNA stran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Group 52"/>
          <p:cNvGrpSpPr/>
          <p:nvPr/>
        </p:nvGrpSpPr>
        <p:grpSpPr>
          <a:xfrm>
            <a:off x="4648320" y="5522760"/>
            <a:ext cx="951480" cy="193320"/>
            <a:chOff x="4648320" y="5522760"/>
            <a:chExt cx="951480" cy="193320"/>
          </a:xfrm>
        </p:grpSpPr>
        <p:sp>
          <p:nvSpPr>
            <p:cNvPr id="701" name="Rectangle 34"/>
            <p:cNvSpPr/>
            <p:nvPr/>
          </p:nvSpPr>
          <p:spPr>
            <a:xfrm>
              <a:off x="4648320" y="552276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39"/>
            <p:cNvSpPr/>
            <p:nvPr/>
          </p:nvSpPr>
          <p:spPr>
            <a:xfrm>
              <a:off x="4770000" y="5530680"/>
              <a:ext cx="829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Breakdown of R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Group 53"/>
          <p:cNvGrpSpPr/>
          <p:nvPr/>
        </p:nvGrpSpPr>
        <p:grpSpPr>
          <a:xfrm>
            <a:off x="4651560" y="5819760"/>
            <a:ext cx="969480" cy="276840"/>
            <a:chOff x="4651560" y="5819760"/>
            <a:chExt cx="969480" cy="276840"/>
          </a:xfrm>
        </p:grpSpPr>
        <p:sp>
          <p:nvSpPr>
            <p:cNvPr id="704" name="Rectangle 35"/>
            <p:cNvSpPr/>
            <p:nvPr/>
          </p:nvSpPr>
          <p:spPr>
            <a:xfrm>
              <a:off x="4651560" y="583740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40"/>
            <p:cNvSpPr/>
            <p:nvPr/>
          </p:nvSpPr>
          <p:spPr>
            <a:xfrm>
              <a:off x="4755960" y="5819760"/>
              <a:ext cx="8650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ynthesis of second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NA stran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Rectangle 41"/>
          <p:cNvSpPr/>
          <p:nvPr/>
        </p:nvSpPr>
        <p:spPr>
          <a:xfrm>
            <a:off x="3485880" y="4056120"/>
            <a:ext cx="5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NA 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anscrip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42"/>
          <p:cNvSpPr/>
          <p:nvPr/>
        </p:nvSpPr>
        <p:spPr>
          <a:xfrm>
            <a:off x="3483000" y="4535640"/>
            <a:ext cx="441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R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43"/>
          <p:cNvSpPr/>
          <p:nvPr/>
        </p:nvSpPr>
        <p:spPr>
          <a:xfrm>
            <a:off x="3321360" y="5199120"/>
            <a:ext cx="1035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verse transcriptas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44"/>
          <p:cNvSpPr/>
          <p:nvPr/>
        </p:nvSpPr>
        <p:spPr>
          <a:xfrm>
            <a:off x="4295880" y="5300640"/>
            <a:ext cx="171360" cy="7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45"/>
          <p:cNvSpPr/>
          <p:nvPr/>
        </p:nvSpPr>
        <p:spPr>
          <a:xfrm flipH="1">
            <a:off x="3983040" y="5518080"/>
            <a:ext cx="201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46"/>
          <p:cNvSpPr/>
          <p:nvPr/>
        </p:nvSpPr>
        <p:spPr>
          <a:xfrm>
            <a:off x="3359160" y="5430960"/>
            <a:ext cx="68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DNA str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47"/>
          <p:cNvSpPr/>
          <p:nvPr/>
        </p:nvSpPr>
        <p:spPr>
          <a:xfrm>
            <a:off x="3489840" y="6005520"/>
            <a:ext cx="7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DNA of gene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no introns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48"/>
          <p:cNvSpPr/>
          <p:nvPr/>
        </p:nvSpPr>
        <p:spPr>
          <a:xfrm>
            <a:off x="3276720" y="5045040"/>
            <a:ext cx="569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st tub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56"/>
          <p:cNvSpPr/>
          <p:nvPr/>
        </p:nvSpPr>
        <p:spPr>
          <a:xfrm>
            <a:off x="2232000" y="609120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NE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975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2.6 Recombinant cells and organisms can mass-produce gene produ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90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pplications of gene cloning includ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90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mass production of gene products for medical and other u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Group 9"/>
          <p:cNvGrpSpPr/>
          <p:nvPr/>
        </p:nvGrpSpPr>
        <p:grpSpPr>
          <a:xfrm>
            <a:off x="3749760" y="3486240"/>
            <a:ext cx="4898520" cy="2948040"/>
            <a:chOff x="3749760" y="3486240"/>
            <a:chExt cx="4898520" cy="2948040"/>
          </a:xfrm>
        </p:grpSpPr>
        <p:pic>
          <p:nvPicPr>
            <p:cNvPr id="719" name="Picture 6" descr="_x000b_12_06_T.jpg                                                    0051B31F_x0003_203                            BE738D99:"/>
            <p:cNvPicPr/>
            <p:nvPr/>
          </p:nvPicPr>
          <p:blipFill>
            <a:blip r:embed="rId1"/>
            <a:stretch/>
          </p:blipFill>
          <p:spPr>
            <a:xfrm>
              <a:off x="4619880" y="3486240"/>
              <a:ext cx="4028400" cy="29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7"/>
            <p:cNvSpPr/>
            <p:nvPr/>
          </p:nvSpPr>
          <p:spPr>
            <a:xfrm>
              <a:off x="3749760" y="6157800"/>
              <a:ext cx="92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ble 12.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ifferent organisms, including bacteria, yeast, and mammal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an be used for this purpos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Group 25"/>
          <p:cNvGrpSpPr/>
          <p:nvPr/>
        </p:nvGrpSpPr>
        <p:grpSpPr>
          <a:xfrm>
            <a:off x="1344600" y="2548080"/>
            <a:ext cx="6346800" cy="3916080"/>
            <a:chOff x="1344600" y="2548080"/>
            <a:chExt cx="6346800" cy="3916080"/>
          </a:xfrm>
        </p:grpSpPr>
        <p:pic>
          <p:nvPicPr>
            <p:cNvPr id="725" name="Picture 23" descr="_x000b_12_06_U.jpg                                                    0051B309_x0003_203                            BE738D99:"/>
            <p:cNvPicPr/>
            <p:nvPr/>
          </p:nvPicPr>
          <p:blipFill>
            <a:blip r:embed="rId1"/>
            <a:stretch/>
          </p:blipFill>
          <p:spPr>
            <a:xfrm>
              <a:off x="2282760" y="2548080"/>
              <a:ext cx="5408640" cy="39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Text Box 24"/>
            <p:cNvSpPr/>
            <p:nvPr/>
          </p:nvSpPr>
          <p:spPr>
            <a:xfrm>
              <a:off x="1344600" y="610092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2.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2.7 DNA technology is changing the pharmaceutical indust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NA technolog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Is widely used to produce medicines and to diagnose diseas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9"/>
          <p:cNvSpPr/>
          <p:nvPr/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Times New Roman"/>
              </a:rPr>
              <a:t>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Therapeutic hormon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 1982, humulin, human insulin produced by bacter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Became the first recombinant drug approved by the Food and Drug Administr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7"/>
          <p:cNvGrpSpPr/>
          <p:nvPr/>
        </p:nvGrpSpPr>
        <p:grpSpPr>
          <a:xfrm>
            <a:off x="5419800" y="3611520"/>
            <a:ext cx="2579760" cy="2881440"/>
            <a:chOff x="5419800" y="3611520"/>
            <a:chExt cx="2579760" cy="2881440"/>
          </a:xfrm>
        </p:grpSpPr>
        <p:pic>
          <p:nvPicPr>
            <p:cNvPr id="735" name="Picture 5" descr="_x000c_12_07a_U.jpg                                                   0051B309_x0003_203                            BE738D99:"/>
            <p:cNvPicPr/>
            <p:nvPr/>
          </p:nvPicPr>
          <p:blipFill>
            <a:blip r:embed="rId1"/>
            <a:stretch/>
          </p:blipFill>
          <p:spPr>
            <a:xfrm>
              <a:off x="6546960" y="3611520"/>
              <a:ext cx="145260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Text Box 6"/>
            <p:cNvSpPr/>
            <p:nvPr/>
          </p:nvSpPr>
          <p:spPr>
            <a:xfrm>
              <a:off x="5419800" y="61135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2.7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Diagnosis and Treatment of Disea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NA technolog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Is being used increasingly in disease diagnosi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NA and Crime Scene Investig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any violent crimes go unsolv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For lack of enough evidenc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f biological fluids are left at a crime scen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DNA can be isolated from them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12"/>
          <p:cNvGrpSpPr/>
          <p:nvPr/>
        </p:nvGrpSpPr>
        <p:grpSpPr>
          <a:xfrm>
            <a:off x="3235320" y="4116240"/>
            <a:ext cx="2771640" cy="2376720"/>
            <a:chOff x="3235320" y="4116240"/>
            <a:chExt cx="2771640" cy="2376720"/>
          </a:xfrm>
        </p:grpSpPr>
        <p:pic>
          <p:nvPicPr>
            <p:cNvPr id="533" name="Picture 13" descr="_x000f_12_UN230a_U.jpg                                                0051B309_x0003_203                            BE738D99:"/>
            <p:cNvPicPr/>
            <p:nvPr/>
          </p:nvPicPr>
          <p:blipFill>
            <a:blip r:embed="rId1"/>
            <a:stretch/>
          </p:blipFill>
          <p:spPr>
            <a:xfrm>
              <a:off x="3235320" y="4116240"/>
              <a:ext cx="1755360" cy="23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Picture 14" descr="_x000f_12_UN230b_U.jpg                                                0051B309_x0003_203                            BE738D99:"/>
            <p:cNvPicPr/>
            <p:nvPr/>
          </p:nvPicPr>
          <p:blipFill>
            <a:blip r:embed="rId2"/>
            <a:stretch/>
          </p:blipFill>
          <p:spPr>
            <a:xfrm>
              <a:off x="4946400" y="5001120"/>
              <a:ext cx="1060560" cy="137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Vaccin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NA technolog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Is also helping medical researchers develop vaccin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Group 6"/>
          <p:cNvGrpSpPr/>
          <p:nvPr/>
        </p:nvGrpSpPr>
        <p:grpSpPr>
          <a:xfrm>
            <a:off x="1773360" y="3289320"/>
            <a:ext cx="5252400" cy="3177000"/>
            <a:chOff x="1773360" y="3289320"/>
            <a:chExt cx="5252400" cy="3177000"/>
          </a:xfrm>
        </p:grpSpPr>
        <p:pic>
          <p:nvPicPr>
            <p:cNvPr id="744" name="Picture 4" descr="_x000c_12_07b_U.jpg                                                   0051B309_x0003_203                            BE738D99:"/>
            <p:cNvPicPr/>
            <p:nvPr/>
          </p:nvPicPr>
          <p:blipFill>
            <a:blip r:embed="rId1"/>
            <a:stretch/>
          </p:blipFill>
          <p:spPr>
            <a:xfrm>
              <a:off x="2968560" y="3289320"/>
              <a:ext cx="405720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Text Box 5"/>
            <p:cNvSpPr/>
            <p:nvPr/>
          </p:nvSpPr>
          <p:spPr>
            <a:xfrm>
              <a:off x="1773360" y="618984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2.7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RESTRICTION FRAGMENT ANALYSIS AND DNA FINGERPRINTING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2.8 Nucleic acid probes identify clones carrying specific gen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4507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NA technology method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an be used to identify specific pieces of DNA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5"/>
          <p:cNvSpPr/>
          <p:nvPr/>
        </p:nvSpPr>
        <p:spPr>
          <a:xfrm>
            <a:off x="1152360" y="635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 nucleic acid prob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Is a short, single-stranded molecule of radioactively labeled or fluorescently labeled DNA or RNA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an tag a desired gene in a librar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Group 20"/>
          <p:cNvGrpSpPr/>
          <p:nvPr/>
        </p:nvGrpSpPr>
        <p:grpSpPr>
          <a:xfrm>
            <a:off x="2446200" y="3559320"/>
            <a:ext cx="4043880" cy="2865240"/>
            <a:chOff x="2446200" y="3559320"/>
            <a:chExt cx="4043880" cy="2865240"/>
          </a:xfrm>
        </p:grpSpPr>
        <p:pic>
          <p:nvPicPr>
            <p:cNvPr id="754" name="Picture 5" descr="_x000b_12_08_U.jpg                                                    00053933_x0007_Abhinav                        BDE0E65C:"/>
            <p:cNvPicPr/>
            <p:nvPr/>
          </p:nvPicPr>
          <p:blipFill>
            <a:blip r:embed="rId1"/>
            <a:stretch/>
          </p:blipFill>
          <p:spPr>
            <a:xfrm>
              <a:off x="2446200" y="3559320"/>
              <a:ext cx="3911760" cy="28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Text Box 6"/>
            <p:cNvSpPr/>
            <p:nvPr/>
          </p:nvSpPr>
          <p:spPr>
            <a:xfrm>
              <a:off x="2886840" y="390384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adioacti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be (DN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Text Box 7"/>
            <p:cNvSpPr/>
            <p:nvPr/>
          </p:nvSpPr>
          <p:spPr>
            <a:xfrm>
              <a:off x="2692800" y="4862520"/>
              <a:ext cx="98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ingle-strand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8"/>
            <p:cNvSpPr/>
            <p:nvPr/>
          </p:nvSpPr>
          <p:spPr>
            <a:xfrm>
              <a:off x="4944960" y="4230720"/>
              <a:ext cx="1162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x with single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tranded DNA fro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arious bacteri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or phage) clon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Text Box 9"/>
            <p:cNvSpPr/>
            <p:nvPr/>
          </p:nvSpPr>
          <p:spPr>
            <a:xfrm>
              <a:off x="5515200" y="5807160"/>
              <a:ext cx="974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se pair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dicates th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 of intere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 Box 10"/>
            <p:cNvSpPr/>
            <p:nvPr/>
          </p:nvSpPr>
          <p:spPr>
            <a:xfrm rot="21514800">
              <a:off x="3896640" y="3898440"/>
              <a:ext cx="816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 T C C G 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Text Box 11"/>
            <p:cNvSpPr/>
            <p:nvPr/>
          </p:nvSpPr>
          <p:spPr>
            <a:xfrm rot="19935000">
              <a:off x="2679480" y="5204880"/>
              <a:ext cx="1477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 T G C G C T T A T C 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Text Box 12"/>
            <p:cNvSpPr/>
            <p:nvPr/>
          </p:nvSpPr>
          <p:spPr>
            <a:xfrm rot="19155000">
              <a:off x="3279960" y="5490720"/>
              <a:ext cx="146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 G C C T T A T G C A 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13"/>
            <p:cNvSpPr/>
            <p:nvPr/>
          </p:nvSpPr>
          <p:spPr>
            <a:xfrm rot="19910400">
              <a:off x="4763520" y="5219280"/>
              <a:ext cx="976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  T  C  C  G  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14"/>
            <p:cNvSpPr/>
            <p:nvPr/>
          </p:nvSpPr>
          <p:spPr>
            <a:xfrm rot="19669800">
              <a:off x="4657680" y="5643360"/>
              <a:ext cx="1445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 G G T A G G C T A  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Text Box 18"/>
          <p:cNvSpPr/>
          <p:nvPr/>
        </p:nvSpPr>
        <p:spPr>
          <a:xfrm>
            <a:off x="1370160" y="602136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2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NE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2.9 DNA microarrays test for the expression of many genes at o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NA microarray assay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an reveal patterns of gene expression in different kinds of cell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5600" indent="-3351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NA microarra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5" descr="_x000b_12_09_U.jpg                                                    00053933_x0007_Abhinav                        BDE0E65C:"/>
          <p:cNvPicPr/>
          <p:nvPr/>
        </p:nvPicPr>
        <p:blipFill>
          <a:blip r:embed="rId1"/>
          <a:stretch/>
        </p:blipFill>
        <p:spPr>
          <a:xfrm>
            <a:off x="358920" y="1968480"/>
            <a:ext cx="7968960" cy="3567240"/>
          </a:xfrm>
          <a:prstGeom prst="rect">
            <a:avLst/>
          </a:prstGeom>
          <a:ln w="0">
            <a:noFill/>
          </a:ln>
        </p:spPr>
      </p:pic>
      <p:grpSp>
        <p:nvGrpSpPr>
          <p:cNvPr id="771" name="Group 30"/>
          <p:cNvGrpSpPr/>
          <p:nvPr/>
        </p:nvGrpSpPr>
        <p:grpSpPr>
          <a:xfrm>
            <a:off x="793440" y="3233880"/>
            <a:ext cx="755640" cy="398520"/>
            <a:chOff x="793440" y="3233880"/>
            <a:chExt cx="755640" cy="398520"/>
          </a:xfrm>
        </p:grpSpPr>
        <p:sp>
          <p:nvSpPr>
            <p:cNvPr id="772" name="Text Box 6"/>
            <p:cNvSpPr/>
            <p:nvPr/>
          </p:nvSpPr>
          <p:spPr>
            <a:xfrm>
              <a:off x="793440" y="32529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"/>
            <p:cNvSpPr/>
            <p:nvPr/>
          </p:nvSpPr>
          <p:spPr>
            <a:xfrm>
              <a:off x="933840" y="3233880"/>
              <a:ext cx="615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sola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Text Box 11"/>
          <p:cNvSpPr/>
          <p:nvPr/>
        </p:nvSpPr>
        <p:spPr>
          <a:xfrm>
            <a:off x="1033920" y="3711600"/>
            <a:ext cx="141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rse transcript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fluorescent D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cleoti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31"/>
          <p:cNvGrpSpPr/>
          <p:nvPr/>
        </p:nvGrpSpPr>
        <p:grpSpPr>
          <a:xfrm>
            <a:off x="1108080" y="4341960"/>
            <a:ext cx="999360" cy="398520"/>
            <a:chOff x="1108080" y="4341960"/>
            <a:chExt cx="999360" cy="398520"/>
          </a:xfrm>
        </p:grpSpPr>
        <p:sp>
          <p:nvSpPr>
            <p:cNvPr id="776" name="Text Box 9"/>
            <p:cNvSpPr/>
            <p:nvPr/>
          </p:nvSpPr>
          <p:spPr>
            <a:xfrm>
              <a:off x="1108080" y="43545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12"/>
            <p:cNvSpPr/>
            <p:nvPr/>
          </p:nvSpPr>
          <p:spPr>
            <a:xfrm>
              <a:off x="1245600" y="4341960"/>
              <a:ext cx="861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DNA ma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mR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32"/>
          <p:cNvGrpSpPr/>
          <p:nvPr/>
        </p:nvGrpSpPr>
        <p:grpSpPr>
          <a:xfrm>
            <a:off x="3522600" y="3490920"/>
            <a:ext cx="1021680" cy="550800"/>
            <a:chOff x="3522600" y="3490920"/>
            <a:chExt cx="1021680" cy="550800"/>
          </a:xfrm>
        </p:grpSpPr>
        <p:sp>
          <p:nvSpPr>
            <p:cNvPr id="779" name="Text Box 7"/>
            <p:cNvSpPr/>
            <p:nvPr/>
          </p:nvSpPr>
          <p:spPr>
            <a:xfrm>
              <a:off x="3522600" y="34909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Text Box 13"/>
            <p:cNvSpPr/>
            <p:nvPr/>
          </p:nvSpPr>
          <p:spPr>
            <a:xfrm>
              <a:off x="3653280" y="3490920"/>
              <a:ext cx="89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bou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DNA rins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33"/>
          <p:cNvGrpSpPr/>
          <p:nvPr/>
        </p:nvGrpSpPr>
        <p:grpSpPr>
          <a:xfrm>
            <a:off x="3395520" y="4087800"/>
            <a:ext cx="1076760" cy="398520"/>
            <a:chOff x="3395520" y="4087800"/>
            <a:chExt cx="1076760" cy="398520"/>
          </a:xfrm>
        </p:grpSpPr>
        <p:sp>
          <p:nvSpPr>
            <p:cNvPr id="782" name="Text Box 8"/>
            <p:cNvSpPr/>
            <p:nvPr/>
          </p:nvSpPr>
          <p:spPr>
            <a:xfrm>
              <a:off x="3395520" y="40989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4"/>
            <p:cNvSpPr/>
            <p:nvPr/>
          </p:nvSpPr>
          <p:spPr>
            <a:xfrm>
              <a:off x="3520440" y="4087800"/>
              <a:ext cx="951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DNA appli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wel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Text Box 15"/>
          <p:cNvSpPr/>
          <p:nvPr/>
        </p:nvSpPr>
        <p:spPr>
          <a:xfrm>
            <a:off x="4757040" y="1954080"/>
            <a:ext cx="114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NA microarr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16"/>
          <p:cNvSpPr/>
          <p:nvPr/>
        </p:nvSpPr>
        <p:spPr>
          <a:xfrm rot="16200000">
            <a:off x="5184000" y="1275120"/>
            <a:ext cx="152280" cy="2103480"/>
          </a:xfrm>
          <a:custGeom>
            <a:avLst/>
            <a:gdLst>
              <a:gd name="textAreaLeft" fmla="*/ 0 w 152280"/>
              <a:gd name="textAreaRight" fmla="*/ 55080 w 152280"/>
              <a:gd name="textAreaTop" fmla="*/ 54720 h 2103480"/>
              <a:gd name="textAreaBottom" fmla="*/ 2048760 h 210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7"/>
          <p:cNvSpPr/>
          <p:nvPr/>
        </p:nvSpPr>
        <p:spPr>
          <a:xfrm>
            <a:off x="4049280" y="2390760"/>
            <a:ext cx="1527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ch well contains D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a particular ge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8"/>
          <p:cNvSpPr/>
          <p:nvPr/>
        </p:nvSpPr>
        <p:spPr>
          <a:xfrm>
            <a:off x="6255360" y="2367000"/>
            <a:ext cx="960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ual 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6,400 gen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9"/>
          <p:cNvSpPr/>
          <p:nvPr/>
        </p:nvSpPr>
        <p:spPr>
          <a:xfrm>
            <a:off x="7072200" y="3730680"/>
            <a:ext cx="522360" cy="290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20"/>
          <p:cNvSpPr/>
          <p:nvPr/>
        </p:nvSpPr>
        <p:spPr>
          <a:xfrm>
            <a:off x="7360560" y="3984480"/>
            <a:ext cx="103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fluoresc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21"/>
          <p:cNvSpPr/>
          <p:nvPr/>
        </p:nvSpPr>
        <p:spPr>
          <a:xfrm flipH="1">
            <a:off x="6338880" y="3730680"/>
            <a:ext cx="3780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22"/>
          <p:cNvSpPr/>
          <p:nvPr/>
        </p:nvSpPr>
        <p:spPr>
          <a:xfrm>
            <a:off x="5844600" y="3997440"/>
            <a:ext cx="842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uoresc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23"/>
          <p:cNvSpPr/>
          <p:nvPr/>
        </p:nvSpPr>
        <p:spPr>
          <a:xfrm flipH="1" flipV="1">
            <a:off x="5773320" y="4636800"/>
            <a:ext cx="420840" cy="129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24"/>
          <p:cNvSpPr/>
          <p:nvPr/>
        </p:nvSpPr>
        <p:spPr>
          <a:xfrm>
            <a:off x="5329800" y="4478400"/>
            <a:ext cx="51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25"/>
          <p:cNvSpPr/>
          <p:nvPr/>
        </p:nvSpPr>
        <p:spPr>
          <a:xfrm>
            <a:off x="6434280" y="4975200"/>
            <a:ext cx="0" cy="4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26"/>
          <p:cNvSpPr/>
          <p:nvPr/>
        </p:nvSpPr>
        <p:spPr>
          <a:xfrm>
            <a:off x="5907240" y="5418000"/>
            <a:ext cx="108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NA of 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ed ge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27"/>
          <p:cNvSpPr/>
          <p:nvPr/>
        </p:nvSpPr>
        <p:spPr>
          <a:xfrm>
            <a:off x="7688160" y="48848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28"/>
          <p:cNvSpPr/>
          <p:nvPr/>
        </p:nvSpPr>
        <p:spPr>
          <a:xfrm>
            <a:off x="7089480" y="5475240"/>
            <a:ext cx="1221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NA of 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expressed ge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29"/>
          <p:cNvSpPr/>
          <p:nvPr/>
        </p:nvSpPr>
        <p:spPr>
          <a:xfrm>
            <a:off x="3853080" y="572940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2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 txBox="1"/>
          <p:nvPr/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2.10 Gel electrophoresis sorts DNA molecules by siz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Group 19"/>
          <p:cNvGrpSpPr/>
          <p:nvPr/>
        </p:nvGrpSpPr>
        <p:grpSpPr>
          <a:xfrm>
            <a:off x="450720" y="2467080"/>
            <a:ext cx="8236800" cy="3481560"/>
            <a:chOff x="450720" y="2467080"/>
            <a:chExt cx="8236800" cy="3481560"/>
          </a:xfrm>
        </p:grpSpPr>
        <p:grpSp>
          <p:nvGrpSpPr>
            <p:cNvPr id="802" name="Group 4"/>
            <p:cNvGrpSpPr/>
            <p:nvPr/>
          </p:nvGrpSpPr>
          <p:grpSpPr>
            <a:xfrm>
              <a:off x="450720" y="2467080"/>
              <a:ext cx="8236800" cy="3344760"/>
              <a:chOff x="450720" y="2467080"/>
              <a:chExt cx="8236800" cy="3344760"/>
            </a:xfrm>
          </p:grpSpPr>
          <p:pic>
            <p:nvPicPr>
              <p:cNvPr id="803" name="Picture 5" descr="_x000b_12_10_U.jpg                                                    00053933_x0007_Abhinav                        BDE0E65C:"/>
              <p:cNvPicPr/>
              <p:nvPr/>
            </p:nvPicPr>
            <p:blipFill>
              <a:blip r:embed="rId1"/>
              <a:stretch/>
            </p:blipFill>
            <p:spPr>
              <a:xfrm>
                <a:off x="450720" y="2467080"/>
                <a:ext cx="7581960" cy="334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4" name="Text Box 6"/>
              <p:cNvSpPr/>
              <p:nvPr/>
            </p:nvSpPr>
            <p:spPr>
              <a:xfrm>
                <a:off x="1319760" y="5407200"/>
                <a:ext cx="2768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Text Box 7"/>
              <p:cNvSpPr/>
              <p:nvPr/>
            </p:nvSpPr>
            <p:spPr>
              <a:xfrm>
                <a:off x="3889800" y="5407200"/>
                <a:ext cx="2768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Text Box 8"/>
              <p:cNvSpPr/>
              <p:nvPr/>
            </p:nvSpPr>
            <p:spPr>
              <a:xfrm>
                <a:off x="1319400" y="3159000"/>
                <a:ext cx="2721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–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Text Box 9"/>
              <p:cNvSpPr/>
              <p:nvPr/>
            </p:nvSpPr>
            <p:spPr>
              <a:xfrm>
                <a:off x="3895920" y="3146400"/>
                <a:ext cx="2721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–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Text Box 10"/>
              <p:cNvSpPr/>
              <p:nvPr/>
            </p:nvSpPr>
            <p:spPr>
              <a:xfrm>
                <a:off x="619200" y="4238640"/>
                <a:ext cx="639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ow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Text Box 11"/>
              <p:cNvSpPr/>
              <p:nvPr/>
            </p:nvSpPr>
            <p:spPr>
              <a:xfrm>
                <a:off x="2979360" y="4708440"/>
                <a:ext cx="418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Line 12"/>
              <p:cNvSpPr/>
              <p:nvPr/>
            </p:nvSpPr>
            <p:spPr>
              <a:xfrm flipV="1">
                <a:off x="2806560" y="4876920"/>
                <a:ext cx="216000" cy="10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13"/>
              <p:cNvSpPr/>
              <p:nvPr/>
            </p:nvSpPr>
            <p:spPr>
              <a:xfrm flipV="1">
                <a:off x="2641680" y="2768760"/>
                <a:ext cx="469800" cy="139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Text Box 14"/>
              <p:cNvSpPr/>
              <p:nvPr/>
            </p:nvSpPr>
            <p:spPr>
              <a:xfrm>
                <a:off x="3083400" y="2600280"/>
                <a:ext cx="1215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ixture of D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olecules o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ifferent siz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15"/>
              <p:cNvSpPr/>
              <p:nvPr/>
            </p:nvSpPr>
            <p:spPr>
              <a:xfrm>
                <a:off x="7819560" y="3581280"/>
                <a:ext cx="867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ng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olecul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Text Box 16"/>
              <p:cNvSpPr/>
              <p:nvPr/>
            </p:nvSpPr>
            <p:spPr>
              <a:xfrm>
                <a:off x="7819560" y="4788000"/>
                <a:ext cx="867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ort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olecul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Text Box 17"/>
              <p:cNvSpPr/>
              <p:nvPr/>
            </p:nvSpPr>
            <p:spPr>
              <a:xfrm>
                <a:off x="6573240" y="5372280"/>
                <a:ext cx="1166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mpleted g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6" name="Text Box 18"/>
            <p:cNvSpPr/>
            <p:nvPr/>
          </p:nvSpPr>
          <p:spPr>
            <a:xfrm>
              <a:off x="3806640" y="567216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2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2.11 Restriction fragment length polymorphisms can be used to detect differences in DNA sequen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w Cen MT"/>
              </a:rPr>
              <a:t>How Restriction Fragments Reflect DNA Sequenc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Restriction fragment length polymorphisms (RFLPs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Reflect differences in the sequences of DNA samp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57"/>
          <p:cNvGrpSpPr/>
          <p:nvPr/>
        </p:nvGrpSpPr>
        <p:grpSpPr>
          <a:xfrm>
            <a:off x="4465800" y="3100320"/>
            <a:ext cx="2712960" cy="3363480"/>
            <a:chOff x="4465800" y="3100320"/>
            <a:chExt cx="2712960" cy="3363480"/>
          </a:xfrm>
        </p:grpSpPr>
        <p:pic>
          <p:nvPicPr>
            <p:cNvPr id="824" name="Picture 5" descr="_x000c_12_11a_U.jpg                                                   00053933_x0007_Abhinav                        BDE0E65C:"/>
            <p:cNvPicPr/>
            <p:nvPr/>
          </p:nvPicPr>
          <p:blipFill>
            <a:blip r:embed="rId1"/>
            <a:stretch/>
          </p:blipFill>
          <p:spPr>
            <a:xfrm>
              <a:off x="5122800" y="3216240"/>
              <a:ext cx="2055960" cy="30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Text Box 6"/>
            <p:cNvSpPr/>
            <p:nvPr/>
          </p:nvSpPr>
          <p:spPr>
            <a:xfrm>
              <a:off x="5124600" y="3100320"/>
              <a:ext cx="825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rime sce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7"/>
            <p:cNvSpPr/>
            <p:nvPr/>
          </p:nvSpPr>
          <p:spPr>
            <a:xfrm>
              <a:off x="6537240" y="3100320"/>
              <a:ext cx="59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uspec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AutoShape 8"/>
            <p:cNvSpPr/>
            <p:nvPr/>
          </p:nvSpPr>
          <p:spPr>
            <a:xfrm>
              <a:off x="4716360" y="3328920"/>
              <a:ext cx="203400" cy="684360"/>
            </a:xfrm>
            <a:custGeom>
              <a:avLst/>
              <a:gdLst>
                <a:gd name="textAreaLeft" fmla="*/ 129960 w 203400"/>
                <a:gd name="textAreaRight" fmla="*/ 203760 w 203400"/>
                <a:gd name="textAreaTop" fmla="*/ 17640 h 684360"/>
                <a:gd name="textAreaBottom" fmla="*/ 666720 h 6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AutoShape 9"/>
            <p:cNvSpPr/>
            <p:nvPr/>
          </p:nvSpPr>
          <p:spPr>
            <a:xfrm>
              <a:off x="4703760" y="4005360"/>
              <a:ext cx="203040" cy="1641240"/>
            </a:xfrm>
            <a:custGeom>
              <a:avLst/>
              <a:gdLst>
                <a:gd name="textAreaLeft" fmla="*/ 129600 w 203040"/>
                <a:gd name="textAreaRight" fmla="*/ 203400 w 203040"/>
                <a:gd name="textAreaTop" fmla="*/ 42480 h 1641240"/>
                <a:gd name="textAreaBottom" fmla="*/ 1598760 h 164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AutoShape 10"/>
            <p:cNvSpPr/>
            <p:nvPr/>
          </p:nvSpPr>
          <p:spPr>
            <a:xfrm>
              <a:off x="4703760" y="5646600"/>
              <a:ext cx="203040" cy="549360"/>
            </a:xfrm>
            <a:custGeom>
              <a:avLst/>
              <a:gdLst>
                <a:gd name="textAreaLeft" fmla="*/ 129600 w 203040"/>
                <a:gd name="textAreaRight" fmla="*/ 203400 w 203040"/>
                <a:gd name="textAreaTop" fmla="*/ 14040 h 549360"/>
                <a:gd name="textAreaBottom" fmla="*/ 535320 h 54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AutoShape 11"/>
            <p:cNvSpPr/>
            <p:nvPr/>
          </p:nvSpPr>
          <p:spPr>
            <a:xfrm>
              <a:off x="6108840" y="3328920"/>
              <a:ext cx="203040" cy="2317680"/>
            </a:xfrm>
            <a:custGeom>
              <a:avLst/>
              <a:gdLst>
                <a:gd name="textAreaLeft" fmla="*/ 129600 w 203040"/>
                <a:gd name="textAreaRight" fmla="*/ 203400 w 203040"/>
                <a:gd name="textAreaTop" fmla="*/ 60120 h 2317680"/>
                <a:gd name="textAreaBottom" fmla="*/ 2257560 h 23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AutoShape 12"/>
            <p:cNvSpPr/>
            <p:nvPr/>
          </p:nvSpPr>
          <p:spPr>
            <a:xfrm>
              <a:off x="6108840" y="5646600"/>
              <a:ext cx="203040" cy="549360"/>
            </a:xfrm>
            <a:custGeom>
              <a:avLst/>
              <a:gdLst>
                <a:gd name="textAreaLeft" fmla="*/ 129600 w 203040"/>
                <a:gd name="textAreaRight" fmla="*/ 203400 w 203040"/>
                <a:gd name="textAreaTop" fmla="*/ 14040 h 549360"/>
                <a:gd name="textAreaBottom" fmla="*/ 535320 h 54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Text Box 13"/>
            <p:cNvSpPr/>
            <p:nvPr/>
          </p:nvSpPr>
          <p:spPr>
            <a:xfrm>
              <a:off x="4465800" y="355428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Text Box 14"/>
            <p:cNvSpPr/>
            <p:nvPr/>
          </p:nvSpPr>
          <p:spPr>
            <a:xfrm>
              <a:off x="4497120" y="4724280"/>
              <a:ext cx="238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 Box 15"/>
            <p:cNvSpPr/>
            <p:nvPr/>
          </p:nvSpPr>
          <p:spPr>
            <a:xfrm>
              <a:off x="4497120" y="5802480"/>
              <a:ext cx="238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Text Box 16"/>
            <p:cNvSpPr/>
            <p:nvPr/>
          </p:nvSpPr>
          <p:spPr>
            <a:xfrm>
              <a:off x="5909760" y="5802480"/>
              <a:ext cx="238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17"/>
            <p:cNvSpPr/>
            <p:nvPr/>
          </p:nvSpPr>
          <p:spPr>
            <a:xfrm>
              <a:off x="5927400" y="4361040"/>
              <a:ext cx="238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Text Box 18"/>
            <p:cNvSpPr/>
            <p:nvPr/>
          </p:nvSpPr>
          <p:spPr>
            <a:xfrm>
              <a:off x="6240240" y="553068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u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19"/>
            <p:cNvSpPr/>
            <p:nvPr/>
          </p:nvSpPr>
          <p:spPr>
            <a:xfrm>
              <a:off x="4884480" y="551808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u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Text Box 20"/>
            <p:cNvSpPr/>
            <p:nvPr/>
          </p:nvSpPr>
          <p:spPr>
            <a:xfrm>
              <a:off x="4897440" y="389736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u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Text Box 21"/>
            <p:cNvSpPr/>
            <p:nvPr/>
          </p:nvSpPr>
          <p:spPr>
            <a:xfrm>
              <a:off x="5218200" y="6232680"/>
              <a:ext cx="1434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NA from chromosom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Text Box 22"/>
            <p:cNvSpPr/>
            <p:nvPr/>
          </p:nvSpPr>
          <p:spPr>
            <a:xfrm>
              <a:off x="5316840" y="382284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Text Box 23"/>
            <p:cNvSpPr/>
            <p:nvPr/>
          </p:nvSpPr>
          <p:spPr>
            <a:xfrm>
              <a:off x="5316840" y="395748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 Box 24"/>
            <p:cNvSpPr/>
            <p:nvPr/>
          </p:nvSpPr>
          <p:spPr>
            <a:xfrm>
              <a:off x="5316840" y="410040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Text Box 25"/>
            <p:cNvSpPr/>
            <p:nvPr/>
          </p:nvSpPr>
          <p:spPr>
            <a:xfrm>
              <a:off x="5316840" y="42433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26"/>
            <p:cNvSpPr/>
            <p:nvPr/>
          </p:nvSpPr>
          <p:spPr>
            <a:xfrm>
              <a:off x="5492880" y="382284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Text Box 27"/>
            <p:cNvSpPr/>
            <p:nvPr/>
          </p:nvSpPr>
          <p:spPr>
            <a:xfrm>
              <a:off x="5492880" y="395748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28"/>
            <p:cNvSpPr/>
            <p:nvPr/>
          </p:nvSpPr>
          <p:spPr>
            <a:xfrm>
              <a:off x="5492880" y="410040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Text Box 29"/>
            <p:cNvSpPr/>
            <p:nvPr/>
          </p:nvSpPr>
          <p:spPr>
            <a:xfrm>
              <a:off x="5492880" y="424332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Text Box 30"/>
            <p:cNvSpPr/>
            <p:nvPr/>
          </p:nvSpPr>
          <p:spPr>
            <a:xfrm>
              <a:off x="6643440" y="39085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31"/>
            <p:cNvSpPr/>
            <p:nvPr/>
          </p:nvSpPr>
          <p:spPr>
            <a:xfrm>
              <a:off x="6635880" y="404352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Text Box 32"/>
            <p:cNvSpPr/>
            <p:nvPr/>
          </p:nvSpPr>
          <p:spPr>
            <a:xfrm>
              <a:off x="6635880" y="418608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Text Box 33"/>
            <p:cNvSpPr/>
            <p:nvPr/>
          </p:nvSpPr>
          <p:spPr>
            <a:xfrm>
              <a:off x="6635880" y="432900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Text Box 34"/>
            <p:cNvSpPr/>
            <p:nvPr/>
          </p:nvSpPr>
          <p:spPr>
            <a:xfrm>
              <a:off x="6798960" y="3908520"/>
              <a:ext cx="250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35"/>
            <p:cNvSpPr/>
            <p:nvPr/>
          </p:nvSpPr>
          <p:spPr>
            <a:xfrm>
              <a:off x="6793200" y="40435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36"/>
            <p:cNvSpPr/>
            <p:nvPr/>
          </p:nvSpPr>
          <p:spPr>
            <a:xfrm>
              <a:off x="6799320" y="418608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37"/>
            <p:cNvSpPr/>
            <p:nvPr/>
          </p:nvSpPr>
          <p:spPr>
            <a:xfrm>
              <a:off x="6799320" y="432900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Text Box 38"/>
            <p:cNvSpPr/>
            <p:nvPr/>
          </p:nvSpPr>
          <p:spPr>
            <a:xfrm>
              <a:off x="6629400" y="545472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 Box 39"/>
            <p:cNvSpPr/>
            <p:nvPr/>
          </p:nvSpPr>
          <p:spPr>
            <a:xfrm>
              <a:off x="6621480" y="559116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40"/>
            <p:cNvSpPr/>
            <p:nvPr/>
          </p:nvSpPr>
          <p:spPr>
            <a:xfrm>
              <a:off x="6621840" y="57355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Text Box 41"/>
            <p:cNvSpPr/>
            <p:nvPr/>
          </p:nvSpPr>
          <p:spPr>
            <a:xfrm>
              <a:off x="6621840" y="587700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Text Box 42"/>
            <p:cNvSpPr/>
            <p:nvPr/>
          </p:nvSpPr>
          <p:spPr>
            <a:xfrm>
              <a:off x="6797880" y="54547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Text Box 43"/>
            <p:cNvSpPr/>
            <p:nvPr/>
          </p:nvSpPr>
          <p:spPr>
            <a:xfrm>
              <a:off x="6804360" y="559116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Text Box 44"/>
            <p:cNvSpPr/>
            <p:nvPr/>
          </p:nvSpPr>
          <p:spPr>
            <a:xfrm>
              <a:off x="6807240" y="573552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45"/>
            <p:cNvSpPr/>
            <p:nvPr/>
          </p:nvSpPr>
          <p:spPr>
            <a:xfrm>
              <a:off x="6810480" y="587700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46"/>
            <p:cNvSpPr/>
            <p:nvPr/>
          </p:nvSpPr>
          <p:spPr>
            <a:xfrm>
              <a:off x="5321520" y="545472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47"/>
            <p:cNvSpPr/>
            <p:nvPr/>
          </p:nvSpPr>
          <p:spPr>
            <a:xfrm>
              <a:off x="5321520" y="559116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Text Box 48"/>
            <p:cNvSpPr/>
            <p:nvPr/>
          </p:nvSpPr>
          <p:spPr>
            <a:xfrm>
              <a:off x="5321520" y="57355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49"/>
            <p:cNvSpPr/>
            <p:nvPr/>
          </p:nvSpPr>
          <p:spPr>
            <a:xfrm>
              <a:off x="5321520" y="587700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Text Box 50"/>
            <p:cNvSpPr/>
            <p:nvPr/>
          </p:nvSpPr>
          <p:spPr>
            <a:xfrm>
              <a:off x="5497560" y="545472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Text Box 51"/>
            <p:cNvSpPr/>
            <p:nvPr/>
          </p:nvSpPr>
          <p:spPr>
            <a:xfrm>
              <a:off x="5497560" y="5591160"/>
              <a:ext cx="26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Text Box 52"/>
            <p:cNvSpPr/>
            <p:nvPr/>
          </p:nvSpPr>
          <p:spPr>
            <a:xfrm>
              <a:off x="5497560" y="573552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Text Box 53"/>
            <p:cNvSpPr/>
            <p:nvPr/>
          </p:nvSpPr>
          <p:spPr>
            <a:xfrm>
              <a:off x="5497560" y="5877000"/>
              <a:ext cx="26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Text Box 55"/>
          <p:cNvSpPr/>
          <p:nvPr/>
        </p:nvSpPr>
        <p:spPr>
          <a:xfrm>
            <a:off x="3336480" y="614844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2.1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fter digestion by restriction enzym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he fragments are run through a g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18"/>
          <p:cNvGrpSpPr/>
          <p:nvPr/>
        </p:nvGrpSpPr>
        <p:grpSpPr>
          <a:xfrm>
            <a:off x="585360" y="2070000"/>
            <a:ext cx="8120520" cy="4457880"/>
            <a:chOff x="585360" y="2070000"/>
            <a:chExt cx="8120520" cy="4457880"/>
          </a:xfrm>
        </p:grpSpPr>
        <p:grpSp>
          <p:nvGrpSpPr>
            <p:cNvPr id="878" name="Group 4"/>
            <p:cNvGrpSpPr/>
            <p:nvPr/>
          </p:nvGrpSpPr>
          <p:grpSpPr>
            <a:xfrm>
              <a:off x="1773360" y="2070000"/>
              <a:ext cx="6932520" cy="4457880"/>
              <a:chOff x="1773360" y="2070000"/>
              <a:chExt cx="6932520" cy="4457880"/>
            </a:xfrm>
          </p:grpSpPr>
          <p:pic>
            <p:nvPicPr>
              <p:cNvPr id="879" name="Picture 5" descr="_x000c_12_11b_U.jpg                                                   00053933_x0007_Abhinav                        BDE0E65C:"/>
              <p:cNvPicPr/>
              <p:nvPr/>
            </p:nvPicPr>
            <p:blipFill>
              <a:blip r:embed="rId1"/>
              <a:stretch/>
            </p:blipFill>
            <p:spPr>
              <a:xfrm>
                <a:off x="2292480" y="2070000"/>
                <a:ext cx="6413400" cy="445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Text Box 6"/>
              <p:cNvSpPr/>
              <p:nvPr/>
            </p:nvSpPr>
            <p:spPr>
              <a:xfrm>
                <a:off x="2449440" y="22762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Text Box 7"/>
              <p:cNvSpPr/>
              <p:nvPr/>
            </p:nvSpPr>
            <p:spPr>
              <a:xfrm>
                <a:off x="2437200" y="6073560"/>
                <a:ext cx="29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Text Box 8"/>
              <p:cNvSpPr/>
              <p:nvPr/>
            </p:nvSpPr>
            <p:spPr>
              <a:xfrm>
                <a:off x="1773360" y="2633760"/>
                <a:ext cx="974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ong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ragm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Text Box 9"/>
              <p:cNvSpPr/>
              <p:nvPr/>
            </p:nvSpPr>
            <p:spPr>
              <a:xfrm>
                <a:off x="1773360" y="5592600"/>
                <a:ext cx="974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hor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ragm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Text Box 10"/>
              <p:cNvSpPr/>
              <p:nvPr/>
            </p:nvSpPr>
            <p:spPr>
              <a:xfrm>
                <a:off x="3553920" y="40957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Text Box 11"/>
              <p:cNvSpPr/>
              <p:nvPr/>
            </p:nvSpPr>
            <p:spPr>
              <a:xfrm>
                <a:off x="3554640" y="50734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Text Box 12"/>
              <p:cNvSpPr/>
              <p:nvPr/>
            </p:nvSpPr>
            <p:spPr>
              <a:xfrm>
                <a:off x="3553920" y="55436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Text Box 13"/>
              <p:cNvSpPr/>
              <p:nvPr/>
            </p:nvSpPr>
            <p:spPr>
              <a:xfrm>
                <a:off x="6766920" y="32194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Text Box 14"/>
              <p:cNvSpPr/>
              <p:nvPr/>
            </p:nvSpPr>
            <p:spPr>
              <a:xfrm>
                <a:off x="6766920" y="55436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Text Box 15"/>
              <p:cNvSpPr/>
              <p:nvPr/>
            </p:nvSpPr>
            <p:spPr>
              <a:xfrm>
                <a:off x="3985920" y="21398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Text Box 16"/>
              <p:cNvSpPr/>
              <p:nvPr/>
            </p:nvSpPr>
            <p:spPr>
              <a:xfrm>
                <a:off x="7135560" y="21398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Text Box 17"/>
            <p:cNvSpPr/>
            <p:nvPr/>
          </p:nvSpPr>
          <p:spPr>
            <a:xfrm>
              <a:off x="585360" y="614844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2.11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Using DNA Probes to Detect Harmful Alle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adioactive prob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an reveal DNA bands of interest on a g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NA fingerprinting is a set of laboratory procedu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hat determines with near certainty whether two samples of DNA are from the same individua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hat has provided a powerful tool for crime scene investigator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17"/>
          <p:cNvGrpSpPr/>
          <p:nvPr/>
        </p:nvGrpSpPr>
        <p:grpSpPr>
          <a:xfrm>
            <a:off x="2716200" y="4518000"/>
            <a:ext cx="4007160" cy="1920960"/>
            <a:chOff x="2716200" y="4518000"/>
            <a:chExt cx="4007160" cy="1920960"/>
          </a:xfrm>
        </p:grpSpPr>
        <p:pic>
          <p:nvPicPr>
            <p:cNvPr id="539" name="Picture 15" descr="_x000e_12_UN231_U.jpg                                                 0051B309_x0003_203                            BE738D99:"/>
            <p:cNvPicPr/>
            <p:nvPr/>
          </p:nvPicPr>
          <p:blipFill>
            <a:blip r:embed="rId1"/>
            <a:stretch/>
          </p:blipFill>
          <p:spPr>
            <a:xfrm>
              <a:off x="2716200" y="4518000"/>
              <a:ext cx="3414960" cy="19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Rectangle 16"/>
            <p:cNvSpPr/>
            <p:nvPr/>
          </p:nvSpPr>
          <p:spPr>
            <a:xfrm>
              <a:off x="5450040" y="5257800"/>
              <a:ext cx="127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vestigator at o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f the crime scen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above), Narborough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ngland (left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etecting a harmful allele using restriction fragment analysis</a:t>
            </a:r>
            <a:br>
              <a:rPr sz="1600"/>
            </a:b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Group 39"/>
          <p:cNvGrpSpPr/>
          <p:nvPr/>
        </p:nvGrpSpPr>
        <p:grpSpPr>
          <a:xfrm>
            <a:off x="4873680" y="1281240"/>
            <a:ext cx="3411000" cy="5246640"/>
            <a:chOff x="4873680" y="1281240"/>
            <a:chExt cx="3411000" cy="5246640"/>
          </a:xfrm>
        </p:grpSpPr>
        <p:pic>
          <p:nvPicPr>
            <p:cNvPr id="899" name="Picture 6" descr="_x000e_12_11c_3_U.jpg                                                 00049E5F&#10; RKAUL-5                       BCE4327F:"/>
            <p:cNvPicPr/>
            <p:nvPr/>
          </p:nvPicPr>
          <p:blipFill>
            <a:blip r:embed="rId1"/>
            <a:stretch/>
          </p:blipFill>
          <p:spPr>
            <a:xfrm>
              <a:off x="4873680" y="1281240"/>
              <a:ext cx="2851200" cy="52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Text Box 7"/>
            <p:cNvSpPr/>
            <p:nvPr/>
          </p:nvSpPr>
          <p:spPr>
            <a:xfrm>
              <a:off x="4983480" y="139608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4989960" y="239940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Text Box 9"/>
            <p:cNvSpPr/>
            <p:nvPr/>
          </p:nvSpPr>
          <p:spPr>
            <a:xfrm>
              <a:off x="4983480" y="342972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Text Box 10"/>
            <p:cNvSpPr/>
            <p:nvPr/>
          </p:nvSpPr>
          <p:spPr>
            <a:xfrm>
              <a:off x="4977000" y="413460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1"/>
            <p:cNvSpPr/>
            <p:nvPr/>
          </p:nvSpPr>
          <p:spPr>
            <a:xfrm>
              <a:off x="4983480" y="513756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2"/>
            <p:cNvSpPr/>
            <p:nvPr/>
          </p:nvSpPr>
          <p:spPr>
            <a:xfrm>
              <a:off x="5083920" y="1385640"/>
              <a:ext cx="120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striction fragmen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repar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Text Box 13"/>
            <p:cNvSpPr/>
            <p:nvPr/>
          </p:nvSpPr>
          <p:spPr>
            <a:xfrm>
              <a:off x="5085360" y="2391840"/>
              <a:ext cx="1162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Gel electrophoresis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Text Box 14"/>
            <p:cNvSpPr/>
            <p:nvPr/>
          </p:nvSpPr>
          <p:spPr>
            <a:xfrm>
              <a:off x="5083200" y="3412440"/>
              <a:ext cx="595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lotting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Text Box 15"/>
            <p:cNvSpPr/>
            <p:nvPr/>
          </p:nvSpPr>
          <p:spPr>
            <a:xfrm>
              <a:off x="5078520" y="4123800"/>
              <a:ext cx="1064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adioactive pro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Text Box 16"/>
            <p:cNvSpPr/>
            <p:nvPr/>
          </p:nvSpPr>
          <p:spPr>
            <a:xfrm>
              <a:off x="5085000" y="5117760"/>
              <a:ext cx="139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etection of radioactivi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utoradiography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Text Box 17"/>
            <p:cNvSpPr/>
            <p:nvPr/>
          </p:nvSpPr>
          <p:spPr>
            <a:xfrm>
              <a:off x="6774120" y="1779120"/>
              <a:ext cx="22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Text Box 18"/>
            <p:cNvSpPr/>
            <p:nvPr/>
          </p:nvSpPr>
          <p:spPr>
            <a:xfrm>
              <a:off x="6955200" y="177912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 Box 19"/>
            <p:cNvSpPr/>
            <p:nvPr/>
          </p:nvSpPr>
          <p:spPr>
            <a:xfrm>
              <a:off x="7140960" y="1779120"/>
              <a:ext cx="299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I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Text Box 20"/>
            <p:cNvSpPr/>
            <p:nvPr/>
          </p:nvSpPr>
          <p:spPr>
            <a:xfrm>
              <a:off x="6869160" y="2485440"/>
              <a:ext cx="22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Text Box 21"/>
            <p:cNvSpPr/>
            <p:nvPr/>
          </p:nvSpPr>
          <p:spPr>
            <a:xfrm>
              <a:off x="6998040" y="248544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 Box 22"/>
            <p:cNvSpPr/>
            <p:nvPr/>
          </p:nvSpPr>
          <p:spPr>
            <a:xfrm>
              <a:off x="7116840" y="2485440"/>
              <a:ext cx="299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I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Text Box 23"/>
            <p:cNvSpPr/>
            <p:nvPr/>
          </p:nvSpPr>
          <p:spPr>
            <a:xfrm>
              <a:off x="6139080" y="2112480"/>
              <a:ext cx="69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trictio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ragmen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Text Box 24"/>
            <p:cNvSpPr/>
            <p:nvPr/>
          </p:nvSpPr>
          <p:spPr>
            <a:xfrm>
              <a:off x="6277320" y="3544200"/>
              <a:ext cx="695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lter pap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25"/>
            <p:cNvSpPr/>
            <p:nvPr/>
          </p:nvSpPr>
          <p:spPr>
            <a:xfrm flipH="1" flipV="1">
              <a:off x="6883560" y="3684600"/>
              <a:ext cx="85680" cy="16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26"/>
            <p:cNvSpPr/>
            <p:nvPr/>
          </p:nvSpPr>
          <p:spPr>
            <a:xfrm>
              <a:off x="6395040" y="4764960"/>
              <a:ext cx="48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b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Line 27"/>
            <p:cNvSpPr/>
            <p:nvPr/>
          </p:nvSpPr>
          <p:spPr>
            <a:xfrm flipV="1">
              <a:off x="6978600" y="5848200"/>
              <a:ext cx="169920" cy="12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28"/>
            <p:cNvSpPr/>
            <p:nvPr/>
          </p:nvSpPr>
          <p:spPr>
            <a:xfrm>
              <a:off x="7108920" y="4419360"/>
              <a:ext cx="117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adioactive, single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anded DNA (prob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29"/>
            <p:cNvSpPr/>
            <p:nvPr/>
          </p:nvSpPr>
          <p:spPr>
            <a:xfrm>
              <a:off x="7077240" y="5709600"/>
              <a:ext cx="403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lm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30"/>
            <p:cNvSpPr/>
            <p:nvPr/>
          </p:nvSpPr>
          <p:spPr>
            <a:xfrm>
              <a:off x="6572520" y="5023800"/>
              <a:ext cx="22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Text Box 31"/>
            <p:cNvSpPr/>
            <p:nvPr/>
          </p:nvSpPr>
          <p:spPr>
            <a:xfrm>
              <a:off x="6599520" y="515088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Text Box 32"/>
            <p:cNvSpPr/>
            <p:nvPr/>
          </p:nvSpPr>
          <p:spPr>
            <a:xfrm>
              <a:off x="6642360" y="5285880"/>
              <a:ext cx="299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I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Text Box 33"/>
            <p:cNvSpPr/>
            <p:nvPr/>
          </p:nvSpPr>
          <p:spPr>
            <a:xfrm>
              <a:off x="6521760" y="5904720"/>
              <a:ext cx="22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Text Box 34"/>
            <p:cNvSpPr/>
            <p:nvPr/>
          </p:nvSpPr>
          <p:spPr>
            <a:xfrm>
              <a:off x="6556680" y="6047640"/>
              <a:ext cx="25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 Box 35"/>
            <p:cNvSpPr/>
            <p:nvPr/>
          </p:nvSpPr>
          <p:spPr>
            <a:xfrm>
              <a:off x="6615360" y="6198480"/>
              <a:ext cx="299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I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Line 36"/>
            <p:cNvSpPr/>
            <p:nvPr/>
          </p:nvSpPr>
          <p:spPr>
            <a:xfrm flipV="1">
              <a:off x="6983280" y="4547880"/>
              <a:ext cx="20484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Text Box 37"/>
          <p:cNvSpPr/>
          <p:nvPr/>
        </p:nvSpPr>
        <p:spPr>
          <a:xfrm>
            <a:off x="3641400" y="610092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2.11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NE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2.12 DNA technology is used in courts of law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NA fingerprinting can help solve crim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Group 11"/>
          <p:cNvGrpSpPr/>
          <p:nvPr/>
        </p:nvGrpSpPr>
        <p:grpSpPr>
          <a:xfrm>
            <a:off x="260280" y="2212920"/>
            <a:ext cx="4451400" cy="3619440"/>
            <a:chOff x="260280" y="2212920"/>
            <a:chExt cx="4451400" cy="3619440"/>
          </a:xfrm>
        </p:grpSpPr>
        <p:pic>
          <p:nvPicPr>
            <p:cNvPr id="937" name="Picture 5" descr="_x000c_12_12a_U.jpg                                                   000538F5_x0007_Abhinav                        BDE0E65C:"/>
            <p:cNvPicPr/>
            <p:nvPr/>
          </p:nvPicPr>
          <p:blipFill>
            <a:blip r:embed="rId1"/>
            <a:stretch/>
          </p:blipFill>
          <p:spPr>
            <a:xfrm>
              <a:off x="260280" y="2529000"/>
              <a:ext cx="4451400" cy="33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Text Box 6"/>
            <p:cNvSpPr/>
            <p:nvPr/>
          </p:nvSpPr>
          <p:spPr>
            <a:xfrm>
              <a:off x="417240" y="2347920"/>
              <a:ext cx="854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fendant’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o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7"/>
            <p:cNvSpPr/>
            <p:nvPr/>
          </p:nvSpPr>
          <p:spPr>
            <a:xfrm>
              <a:off x="1825920" y="2212920"/>
              <a:ext cx="1269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ood fr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fendant’s cloth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AutoShape 8"/>
            <p:cNvSpPr/>
            <p:nvPr/>
          </p:nvSpPr>
          <p:spPr>
            <a:xfrm rot="5400000">
              <a:off x="2403360" y="1955880"/>
              <a:ext cx="108000" cy="1349280"/>
            </a:xfrm>
            <a:custGeom>
              <a:avLst/>
              <a:gdLst>
                <a:gd name="textAreaLeft" fmla="*/ 69120 w 108000"/>
                <a:gd name="textAreaRight" fmla="*/ 108360 w 108000"/>
                <a:gd name="textAreaTop" fmla="*/ 34920 h 1349280"/>
                <a:gd name="textAreaBottom" fmla="*/ 1314360 h 13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9"/>
            <p:cNvSpPr/>
            <p:nvPr/>
          </p:nvSpPr>
          <p:spPr>
            <a:xfrm>
              <a:off x="3775320" y="2347920"/>
              <a:ext cx="615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ictim’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o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2" name="Text Box 12"/>
          <p:cNvSpPr/>
          <p:nvPr/>
        </p:nvSpPr>
        <p:spPr>
          <a:xfrm>
            <a:off x="1479240" y="572760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2.1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Group 14"/>
          <p:cNvGrpSpPr/>
          <p:nvPr/>
        </p:nvGrpSpPr>
        <p:grpSpPr>
          <a:xfrm>
            <a:off x="4991040" y="1419120"/>
            <a:ext cx="3894120" cy="4573800"/>
            <a:chOff x="4991040" y="1419120"/>
            <a:chExt cx="3894120" cy="4573800"/>
          </a:xfrm>
        </p:grpSpPr>
        <p:pic>
          <p:nvPicPr>
            <p:cNvPr id="944" name="Picture 10" descr="_x000c_12_12b_U.jpg                                                   0004A2E5&#10; RKAUL-5                       BCE4327F:"/>
            <p:cNvPicPr/>
            <p:nvPr/>
          </p:nvPicPr>
          <p:blipFill>
            <a:blip r:embed="rId2"/>
            <a:stretch/>
          </p:blipFill>
          <p:spPr>
            <a:xfrm>
              <a:off x="4991040" y="1419120"/>
              <a:ext cx="38941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 Box 13"/>
            <p:cNvSpPr/>
            <p:nvPr/>
          </p:nvSpPr>
          <p:spPr>
            <a:xfrm>
              <a:off x="6260760" y="571644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2.12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NE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2.13 Gene therapy may someday help treat a variety of disea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Gene therapy Is the alteration of an afflicted individual’s gen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9" name="Picture 24" descr="_x000b_12_13_U.jpg                                                    00053933_x0007_Abhinav                        BDE0E65C:"/>
          <p:cNvPicPr/>
          <p:nvPr/>
        </p:nvPicPr>
        <p:blipFill>
          <a:blip r:embed="rId1"/>
          <a:stretch/>
        </p:blipFill>
        <p:spPr>
          <a:xfrm>
            <a:off x="3927600" y="2976480"/>
            <a:ext cx="1963440" cy="3313080"/>
          </a:xfrm>
          <a:prstGeom prst="rect">
            <a:avLst/>
          </a:prstGeom>
          <a:ln w="0">
            <a:noFill/>
          </a:ln>
        </p:spPr>
      </p:pic>
      <p:sp>
        <p:nvSpPr>
          <p:cNvPr id="950" name="Text Box 29"/>
          <p:cNvSpPr/>
          <p:nvPr/>
        </p:nvSpPr>
        <p:spPr>
          <a:xfrm>
            <a:off x="3912480" y="287820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oned g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normal allel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Group 44"/>
          <p:cNvGrpSpPr/>
          <p:nvPr/>
        </p:nvGrpSpPr>
        <p:grpSpPr>
          <a:xfrm>
            <a:off x="4816440" y="3022560"/>
            <a:ext cx="1266840" cy="376200"/>
            <a:chOff x="4816440" y="3022560"/>
            <a:chExt cx="1266840" cy="376200"/>
          </a:xfrm>
        </p:grpSpPr>
        <p:sp>
          <p:nvSpPr>
            <p:cNvPr id="952" name="Text Box 28"/>
            <p:cNvSpPr/>
            <p:nvPr/>
          </p:nvSpPr>
          <p:spPr>
            <a:xfrm>
              <a:off x="4816440" y="30225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Text Box 30"/>
            <p:cNvSpPr/>
            <p:nvPr/>
          </p:nvSpPr>
          <p:spPr>
            <a:xfrm>
              <a:off x="4943880" y="3030480"/>
              <a:ext cx="113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sert normal ge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to vir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Group 45"/>
          <p:cNvGrpSpPr/>
          <p:nvPr/>
        </p:nvGrpSpPr>
        <p:grpSpPr>
          <a:xfrm>
            <a:off x="4825800" y="4106880"/>
            <a:ext cx="1282320" cy="368280"/>
            <a:chOff x="4825800" y="4106880"/>
            <a:chExt cx="1282320" cy="368280"/>
          </a:xfrm>
        </p:grpSpPr>
        <p:sp>
          <p:nvSpPr>
            <p:cNvPr id="955" name="Text Box 27"/>
            <p:cNvSpPr/>
            <p:nvPr/>
          </p:nvSpPr>
          <p:spPr>
            <a:xfrm>
              <a:off x="4825800" y="41212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Text Box 31"/>
            <p:cNvSpPr/>
            <p:nvPr/>
          </p:nvSpPr>
          <p:spPr>
            <a:xfrm>
              <a:off x="4944240" y="4106880"/>
              <a:ext cx="116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fect bone marrow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ell with vir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Group 46"/>
          <p:cNvGrpSpPr/>
          <p:nvPr/>
        </p:nvGrpSpPr>
        <p:grpSpPr>
          <a:xfrm>
            <a:off x="4825800" y="4748040"/>
            <a:ext cx="1193040" cy="376560"/>
            <a:chOff x="4825800" y="4748040"/>
            <a:chExt cx="1193040" cy="376560"/>
          </a:xfrm>
        </p:grpSpPr>
        <p:sp>
          <p:nvSpPr>
            <p:cNvPr id="958" name="Text Box 26"/>
            <p:cNvSpPr/>
            <p:nvPr/>
          </p:nvSpPr>
          <p:spPr>
            <a:xfrm>
              <a:off x="4825800" y="47480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Text Box 32"/>
            <p:cNvSpPr/>
            <p:nvPr/>
          </p:nvSpPr>
          <p:spPr>
            <a:xfrm>
              <a:off x="4957200" y="4756320"/>
              <a:ext cx="106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iral DNA inser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to chromoso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Group 47"/>
          <p:cNvGrpSpPr/>
          <p:nvPr/>
        </p:nvGrpSpPr>
        <p:grpSpPr>
          <a:xfrm>
            <a:off x="3978000" y="5946840"/>
            <a:ext cx="867960" cy="368280"/>
            <a:chOff x="3978000" y="5946840"/>
            <a:chExt cx="867960" cy="368280"/>
          </a:xfrm>
        </p:grpSpPr>
        <p:sp>
          <p:nvSpPr>
            <p:cNvPr id="961" name="Text Box 25"/>
            <p:cNvSpPr/>
            <p:nvPr/>
          </p:nvSpPr>
          <p:spPr>
            <a:xfrm>
              <a:off x="3978000" y="5952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Text Box 33"/>
            <p:cNvSpPr/>
            <p:nvPr/>
          </p:nvSpPr>
          <p:spPr>
            <a:xfrm>
              <a:off x="4101480" y="594684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ject cel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to pati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Text Box 34"/>
          <p:cNvSpPr/>
          <p:nvPr/>
        </p:nvSpPr>
        <p:spPr>
          <a:xfrm>
            <a:off x="5118120" y="555624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r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35"/>
          <p:cNvSpPr/>
          <p:nvPr/>
        </p:nvSpPr>
        <p:spPr>
          <a:xfrm>
            <a:off x="4637160" y="5232240"/>
            <a:ext cx="307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36"/>
          <p:cNvSpPr/>
          <p:nvPr/>
        </p:nvSpPr>
        <p:spPr>
          <a:xfrm>
            <a:off x="4953600" y="511956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ne marr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ll from pati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37"/>
          <p:cNvSpPr/>
          <p:nvPr/>
        </p:nvSpPr>
        <p:spPr>
          <a:xfrm flipV="1">
            <a:off x="4549680" y="3673440"/>
            <a:ext cx="45900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38"/>
          <p:cNvSpPr/>
          <p:nvPr/>
        </p:nvSpPr>
        <p:spPr>
          <a:xfrm>
            <a:off x="4958280" y="3554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ral nucle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39"/>
          <p:cNvSpPr/>
          <p:nvPr/>
        </p:nvSpPr>
        <p:spPr>
          <a:xfrm flipV="1">
            <a:off x="4514760" y="4029120"/>
            <a:ext cx="490680" cy="10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40"/>
          <p:cNvSpPr/>
          <p:nvPr/>
        </p:nvSpPr>
        <p:spPr>
          <a:xfrm>
            <a:off x="4950000" y="3905280"/>
            <a:ext cx="73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troviru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41"/>
          <p:cNvSpPr/>
          <p:nvPr/>
        </p:nvSpPr>
        <p:spPr>
          <a:xfrm flipV="1">
            <a:off x="5322960" y="5888160"/>
            <a:ext cx="115920" cy="93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42"/>
          <p:cNvSpPr/>
          <p:nvPr/>
        </p:nvSpPr>
        <p:spPr>
          <a:xfrm>
            <a:off x="2701440" y="59896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2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ene therap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May one day be used to treat both genetic diseases and nongenetic disorder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nfortunately, progress is slow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12.14 The PCR method is used to amplify DNA sequences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polymerase chain reaction (PCR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an be used to clone a small sample of DNA quickly, producing enough copies for analysis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Group 15"/>
          <p:cNvGrpSpPr/>
          <p:nvPr/>
        </p:nvGrpSpPr>
        <p:grpSpPr>
          <a:xfrm>
            <a:off x="6326280" y="3594240"/>
            <a:ext cx="2092320" cy="2822040"/>
            <a:chOff x="6326280" y="3594240"/>
            <a:chExt cx="2092320" cy="2822040"/>
          </a:xfrm>
        </p:grpSpPr>
        <p:pic>
          <p:nvPicPr>
            <p:cNvPr id="979" name="Picture 5" descr="_x000b_12_14_U.jpg                                                    00053933_x0007_Abhinav                        BDE0E65C:"/>
            <p:cNvPicPr/>
            <p:nvPr/>
          </p:nvPicPr>
          <p:blipFill>
            <a:blip r:embed="rId1"/>
            <a:stretch/>
          </p:blipFill>
          <p:spPr>
            <a:xfrm>
              <a:off x="6380280" y="3594240"/>
              <a:ext cx="2038320" cy="23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0" name="Text Box 6"/>
            <p:cNvSpPr/>
            <p:nvPr/>
          </p:nvSpPr>
          <p:spPr>
            <a:xfrm>
              <a:off x="6423480" y="60166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Text Box 7"/>
            <p:cNvSpPr/>
            <p:nvPr/>
          </p:nvSpPr>
          <p:spPr>
            <a:xfrm>
              <a:off x="6975720" y="60166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 Box 8"/>
            <p:cNvSpPr/>
            <p:nvPr/>
          </p:nvSpPr>
          <p:spPr>
            <a:xfrm>
              <a:off x="7452000" y="60166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Text Box 9"/>
            <p:cNvSpPr/>
            <p:nvPr/>
          </p:nvSpPr>
          <p:spPr>
            <a:xfrm>
              <a:off x="7934760" y="60166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Text Box 10"/>
            <p:cNvSpPr/>
            <p:nvPr/>
          </p:nvSpPr>
          <p:spPr>
            <a:xfrm>
              <a:off x="6326280" y="4791240"/>
              <a:ext cx="57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i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g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Text Box 11"/>
            <p:cNvSpPr/>
            <p:nvPr/>
          </p:nvSpPr>
          <p:spPr>
            <a:xfrm>
              <a:off x="6734880" y="6200640"/>
              <a:ext cx="1389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umber of DNA molecul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Text Box 13"/>
          <p:cNvSpPr/>
          <p:nvPr/>
        </p:nvSpPr>
        <p:spPr>
          <a:xfrm>
            <a:off x="5213160" y="615960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2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Group 11"/>
          <p:cNvGrpSpPr/>
          <p:nvPr/>
        </p:nvGrpSpPr>
        <p:grpSpPr>
          <a:xfrm>
            <a:off x="2331720" y="4255920"/>
            <a:ext cx="4224600" cy="2186280"/>
            <a:chOff x="2331720" y="4255920"/>
            <a:chExt cx="4224600" cy="2186280"/>
          </a:xfrm>
        </p:grpSpPr>
        <p:pic>
          <p:nvPicPr>
            <p:cNvPr id="989" name="Picture 4" descr="_x000b_12_15_U.jpg                                                    0004A2E5&#10; RKAUL-5                       BCE4327F:"/>
            <p:cNvPicPr/>
            <p:nvPr/>
          </p:nvPicPr>
          <p:blipFill>
            <a:blip r:embed="rId1"/>
            <a:stretch/>
          </p:blipFill>
          <p:spPr>
            <a:xfrm>
              <a:off x="3313080" y="4255920"/>
              <a:ext cx="3243240" cy="21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0" name="Text Box 5"/>
            <p:cNvSpPr/>
            <p:nvPr/>
          </p:nvSpPr>
          <p:spPr>
            <a:xfrm>
              <a:off x="2331720" y="615456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2.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GENOMICS </a:t>
            </a: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CONNEC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876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12.15 The Human Genome Project is an ambitious application of DNA technolog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450720">
              <a:spcBef>
                <a:spcPts val="81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Human Genome Project, begun in 1990 and now largely completed, involv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81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enetic and physical mapping of chromosomes, followed by DNA sequenci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data are providing insight int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Development, evolution, and many diseas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2.16 Most of the human genome does not consist of gen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haploid human genome contains about 25,000 gen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And a huge amount of noncoding DNA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uch of the noncoding DNA consists of repetitive nucleotide sequenc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And transposons that can move about within the genom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BACTERIAL PLASMIDS AND GENE CLONING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2.1 Plasmids are used to customize bacteria: An overview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ene cloning is one application of DNA technolog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Methods for studying and manipulating genetic materia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NE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2.17 The science of genomics compares whole genom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equencing of many prokaryotic and eukaryotic genom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Has produced data for genomics, the study of whole genom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esides being interesting themselv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Nonhuman genomes can be compared with the human genom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Group 7"/>
          <p:cNvGrpSpPr/>
          <p:nvPr/>
        </p:nvGrpSpPr>
        <p:grpSpPr>
          <a:xfrm>
            <a:off x="666000" y="2467080"/>
            <a:ext cx="7979400" cy="3911400"/>
            <a:chOff x="666000" y="2467080"/>
            <a:chExt cx="7979400" cy="3911400"/>
          </a:xfrm>
        </p:grpSpPr>
        <p:pic>
          <p:nvPicPr>
            <p:cNvPr id="1009" name="Picture 5" descr="_x000b_12_17_T.jpg                                                    0004A30F&#10; RKAUL-5                       BCE4327F:"/>
            <p:cNvPicPr/>
            <p:nvPr/>
          </p:nvPicPr>
          <p:blipFill>
            <a:blip r:embed="rId1"/>
            <a:stretch/>
          </p:blipFill>
          <p:spPr>
            <a:xfrm>
              <a:off x="1606320" y="2467080"/>
              <a:ext cx="7039080" cy="39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0" name="Text Box 6"/>
            <p:cNvSpPr/>
            <p:nvPr/>
          </p:nvSpPr>
          <p:spPr>
            <a:xfrm>
              <a:off x="666000" y="5983200"/>
              <a:ext cx="100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ble 12.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oteomic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Is the study of the full sets of proteins produced by organism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GENETICALLY MODIFIED ORGANISMS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CONNEC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2.18 Genetically modified organisms are transforming agricult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combinant DNA technolog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an be used to produce new genetic varieties of plants and animals, genetically modified (GM) organism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Picture 5" descr="_x000c_12_18a_U.jpg                                                   00053933_x0007_Abhinav                        BDE0E65C:"/>
          <p:cNvPicPr/>
          <p:nvPr/>
        </p:nvPicPr>
        <p:blipFill>
          <a:blip r:embed="rId1"/>
          <a:stretch/>
        </p:blipFill>
        <p:spPr>
          <a:xfrm>
            <a:off x="690480" y="3259080"/>
            <a:ext cx="7888320" cy="2395440"/>
          </a:xfrm>
          <a:prstGeom prst="rect">
            <a:avLst/>
          </a:prstGeom>
          <a:ln w="0">
            <a:noFill/>
          </a:ln>
        </p:spPr>
      </p:pic>
      <p:sp>
        <p:nvSpPr>
          <p:cNvPr id="1021" name="Text Box 6"/>
          <p:cNvSpPr/>
          <p:nvPr/>
        </p:nvSpPr>
        <p:spPr>
          <a:xfrm>
            <a:off x="424800" y="3094200"/>
            <a:ext cx="20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grobacterium tumefac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7"/>
          <p:cNvSpPr/>
          <p:nvPr/>
        </p:nvSpPr>
        <p:spPr>
          <a:xfrm>
            <a:off x="2292480" y="35560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on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for desired tr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8"/>
          <p:cNvSpPr/>
          <p:nvPr/>
        </p:nvSpPr>
        <p:spPr>
          <a:xfrm>
            <a:off x="1069920" y="4457880"/>
            <a:ext cx="70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Group 26"/>
          <p:cNvGrpSpPr/>
          <p:nvPr/>
        </p:nvGrpSpPr>
        <p:grpSpPr>
          <a:xfrm>
            <a:off x="1894320" y="4405320"/>
            <a:ext cx="1419840" cy="1219320"/>
            <a:chOff x="1894320" y="4405320"/>
            <a:chExt cx="1419840" cy="1219320"/>
          </a:xfrm>
        </p:grpSpPr>
        <p:sp>
          <p:nvSpPr>
            <p:cNvPr id="1025" name="Text Box 9"/>
            <p:cNvSpPr/>
            <p:nvPr/>
          </p:nvSpPr>
          <p:spPr>
            <a:xfrm>
              <a:off x="2259000" y="4405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12"/>
            <p:cNvSpPr/>
            <p:nvPr/>
          </p:nvSpPr>
          <p:spPr>
            <a:xfrm>
              <a:off x="1894320" y="4800600"/>
              <a:ext cx="1419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sertion of ge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o plasmid us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triction enzy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d DNA lig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Text Box 13"/>
          <p:cNvSpPr/>
          <p:nvPr/>
        </p:nvSpPr>
        <p:spPr>
          <a:xfrm>
            <a:off x="3263760" y="4559400"/>
            <a:ext cx="1005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ombin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i plasmi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Group 27"/>
          <p:cNvGrpSpPr/>
          <p:nvPr/>
        </p:nvGrpSpPr>
        <p:grpSpPr>
          <a:xfrm>
            <a:off x="4359600" y="4405320"/>
            <a:ext cx="981000" cy="1193760"/>
            <a:chOff x="4359600" y="4405320"/>
            <a:chExt cx="981000" cy="1193760"/>
          </a:xfrm>
        </p:grpSpPr>
        <p:sp>
          <p:nvSpPr>
            <p:cNvPr id="1029" name="Text Box 10"/>
            <p:cNvSpPr/>
            <p:nvPr/>
          </p:nvSpPr>
          <p:spPr>
            <a:xfrm>
              <a:off x="4636800" y="4405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 Box 14"/>
            <p:cNvSpPr/>
            <p:nvPr/>
          </p:nvSpPr>
          <p:spPr>
            <a:xfrm>
              <a:off x="4359600" y="4775040"/>
              <a:ext cx="981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rodu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o pl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lls 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ul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1" name="Group 28"/>
          <p:cNvGrpSpPr/>
          <p:nvPr/>
        </p:nvGrpSpPr>
        <p:grpSpPr>
          <a:xfrm>
            <a:off x="6377400" y="4405320"/>
            <a:ext cx="1099800" cy="879840"/>
            <a:chOff x="6377400" y="4405320"/>
            <a:chExt cx="1099800" cy="879840"/>
          </a:xfrm>
        </p:grpSpPr>
        <p:sp>
          <p:nvSpPr>
            <p:cNvPr id="1032" name="Text Box 11"/>
            <p:cNvSpPr/>
            <p:nvPr/>
          </p:nvSpPr>
          <p:spPr>
            <a:xfrm>
              <a:off x="6656040" y="4405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15"/>
            <p:cNvSpPr/>
            <p:nvPr/>
          </p:nvSpPr>
          <p:spPr>
            <a:xfrm>
              <a:off x="6377400" y="4826160"/>
              <a:ext cx="1099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ene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pl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4" name="Text Box 16"/>
          <p:cNvSpPr/>
          <p:nvPr/>
        </p:nvSpPr>
        <p:spPr>
          <a:xfrm>
            <a:off x="7128000" y="5460840"/>
            <a:ext cx="14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with new tr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AutoShape 17"/>
          <p:cNvSpPr/>
          <p:nvPr/>
        </p:nvSpPr>
        <p:spPr>
          <a:xfrm rot="5400000">
            <a:off x="5731560" y="4990320"/>
            <a:ext cx="108000" cy="719280"/>
          </a:xfrm>
          <a:custGeom>
            <a:avLst/>
            <a:gdLst>
              <a:gd name="textAreaLeft" fmla="*/ 0 w 108000"/>
              <a:gd name="textAreaRight" fmla="*/ 38880 w 10800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18"/>
          <p:cNvSpPr/>
          <p:nvPr/>
        </p:nvSpPr>
        <p:spPr>
          <a:xfrm>
            <a:off x="4702680" y="537372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DNA carrying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within plant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9"/>
          <p:cNvSpPr/>
          <p:nvPr/>
        </p:nvSpPr>
        <p:spPr>
          <a:xfrm>
            <a:off x="5859000" y="358128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20"/>
          <p:cNvSpPr/>
          <p:nvPr/>
        </p:nvSpPr>
        <p:spPr>
          <a:xfrm flipH="1">
            <a:off x="952560" y="5176800"/>
            <a:ext cx="326880" cy="2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21"/>
          <p:cNvSpPr/>
          <p:nvPr/>
        </p:nvSpPr>
        <p:spPr>
          <a:xfrm>
            <a:off x="628560" y="54356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22"/>
          <p:cNvSpPr/>
          <p:nvPr/>
        </p:nvSpPr>
        <p:spPr>
          <a:xfrm flipH="1">
            <a:off x="1409400" y="5168880"/>
            <a:ext cx="1260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23"/>
          <p:cNvSpPr/>
          <p:nvPr/>
        </p:nvSpPr>
        <p:spPr>
          <a:xfrm>
            <a:off x="1147680" y="571500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24"/>
          <p:cNvSpPr/>
          <p:nvPr/>
        </p:nvSpPr>
        <p:spPr>
          <a:xfrm>
            <a:off x="3831840" y="602784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2.18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ransgenic organism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Are those that have had genes from other organisms inserted into their genom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Group 6"/>
          <p:cNvGrpSpPr/>
          <p:nvPr/>
        </p:nvGrpSpPr>
        <p:grpSpPr>
          <a:xfrm>
            <a:off x="1412280" y="2982960"/>
            <a:ext cx="6340680" cy="3441600"/>
            <a:chOff x="1412280" y="2982960"/>
            <a:chExt cx="6340680" cy="3441600"/>
          </a:xfrm>
        </p:grpSpPr>
        <p:pic>
          <p:nvPicPr>
            <p:cNvPr id="1047" name="Picture 4" descr="_x000c_12_18b_U.jpg                                                   0004A2E5&#10; RKAUL-5                       BCE4327F:"/>
            <p:cNvPicPr/>
            <p:nvPr/>
          </p:nvPicPr>
          <p:blipFill>
            <a:blip r:embed="rId1"/>
            <a:stretch/>
          </p:blipFill>
          <p:spPr>
            <a:xfrm>
              <a:off x="2498400" y="2982960"/>
              <a:ext cx="5254560" cy="34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8" name="Text Box 5"/>
            <p:cNvSpPr/>
            <p:nvPr/>
          </p:nvSpPr>
          <p:spPr>
            <a:xfrm>
              <a:off x="1412280" y="593568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2.18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 number of important crops and pla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Are genetically modifie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NE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2.19 Could GM organisms harm human health or the environment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velopment of GM organism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Requires significant safety measur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Group 7"/>
          <p:cNvGrpSpPr/>
          <p:nvPr/>
        </p:nvGrpSpPr>
        <p:grpSpPr>
          <a:xfrm>
            <a:off x="1842840" y="3387600"/>
            <a:ext cx="5048640" cy="2949480"/>
            <a:chOff x="1842840" y="3387600"/>
            <a:chExt cx="5048640" cy="2949480"/>
          </a:xfrm>
        </p:grpSpPr>
        <p:pic>
          <p:nvPicPr>
            <p:cNvPr id="1056" name="Picture 5" descr="_x000c_12_19a_U.jpg                                                   0004A2E5&#10; RKAUL-5                       BCE4327F:"/>
            <p:cNvPicPr/>
            <p:nvPr/>
          </p:nvPicPr>
          <p:blipFill>
            <a:blip r:embed="rId1"/>
            <a:stretch/>
          </p:blipFill>
          <p:spPr>
            <a:xfrm>
              <a:off x="3040200" y="3387600"/>
              <a:ext cx="3851280" cy="29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7" name="Text Box 6"/>
            <p:cNvSpPr/>
            <p:nvPr/>
          </p:nvSpPr>
          <p:spPr>
            <a:xfrm>
              <a:off x="1842840" y="601956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2.19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enetic engineering involves risk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uch as ecological damage from GM crop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6"/>
          <p:cNvGrpSpPr/>
          <p:nvPr/>
        </p:nvGrpSpPr>
        <p:grpSpPr>
          <a:xfrm>
            <a:off x="2558520" y="2602080"/>
            <a:ext cx="4105440" cy="3822480"/>
            <a:chOff x="2558520" y="2602080"/>
            <a:chExt cx="4105440" cy="3822480"/>
          </a:xfrm>
        </p:grpSpPr>
        <p:pic>
          <p:nvPicPr>
            <p:cNvPr id="1062" name="Picture 4" descr="_x000c_12_19b_U.jpg                                                   0004A2E5&#10; RKAUL-5                       BCE4327F:"/>
            <p:cNvPicPr/>
            <p:nvPr/>
          </p:nvPicPr>
          <p:blipFill>
            <a:blip r:embed="rId1"/>
            <a:stretch/>
          </p:blipFill>
          <p:spPr>
            <a:xfrm>
              <a:off x="3670200" y="2602080"/>
              <a:ext cx="2993760" cy="38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3" name="Text Box 5"/>
            <p:cNvSpPr/>
            <p:nvPr/>
          </p:nvSpPr>
          <p:spPr>
            <a:xfrm>
              <a:off x="2558520" y="604548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2.19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NE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2.20 Genomics researcher Eric Lander discusses the Human Genome Projec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enomics pioneer Eric Land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Points out that much remains to be learned from the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       Human Genome Projec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7" name="Group 8"/>
          <p:cNvGrpSpPr/>
          <p:nvPr/>
        </p:nvGrpSpPr>
        <p:grpSpPr>
          <a:xfrm>
            <a:off x="2506320" y="3467160"/>
            <a:ext cx="3395880" cy="3043080"/>
            <a:chOff x="2506320" y="3467160"/>
            <a:chExt cx="3395880" cy="3043080"/>
          </a:xfrm>
        </p:grpSpPr>
        <p:pic>
          <p:nvPicPr>
            <p:cNvPr id="1068" name="Picture 6" descr="_x000b_12_20_U.jpg                                                    0004A2E5&#10; RKAUL-5                       BCE4327F:"/>
            <p:cNvPicPr/>
            <p:nvPr/>
          </p:nvPicPr>
          <p:blipFill>
            <a:blip r:embed="rId1"/>
            <a:stretch/>
          </p:blipFill>
          <p:spPr>
            <a:xfrm>
              <a:off x="3470040" y="3467160"/>
              <a:ext cx="2432160" cy="30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Text Box 7"/>
            <p:cNvSpPr/>
            <p:nvPr/>
          </p:nvSpPr>
          <p:spPr>
            <a:xfrm>
              <a:off x="2506320" y="615456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2.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combinant DNA Technolog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52280" y="1600200"/>
            <a:ext cx="8810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searchers can insert desired genes into plasmids, creati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combinant DNA (combing genes from one source and insert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ose plasmid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to bacteria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7" descr="&#13;12_01_3_U.jpg                                                  0051B33B_x0003_203                            BE738D99:"/>
          <p:cNvPicPr/>
          <p:nvPr/>
        </p:nvPicPr>
        <p:blipFill>
          <a:blip r:embed="rId1"/>
          <a:stretch/>
        </p:blipFill>
        <p:spPr>
          <a:xfrm>
            <a:off x="2832120" y="2487600"/>
            <a:ext cx="4178160" cy="356220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13"/>
          <p:cNvSpPr/>
          <p:nvPr/>
        </p:nvSpPr>
        <p:spPr>
          <a:xfrm>
            <a:off x="3069000" y="2486160"/>
            <a:ext cx="577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acteri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4"/>
          <p:cNvSpPr/>
          <p:nvPr/>
        </p:nvSpPr>
        <p:spPr>
          <a:xfrm>
            <a:off x="2778480" y="3192480"/>
            <a:ext cx="68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acter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15"/>
          <p:cNvSpPr/>
          <p:nvPr/>
        </p:nvSpPr>
        <p:spPr>
          <a:xfrm>
            <a:off x="3117960" y="29210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6"/>
          <p:cNvSpPr/>
          <p:nvPr/>
        </p:nvSpPr>
        <p:spPr>
          <a:xfrm>
            <a:off x="3613320" y="28987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7"/>
          <p:cNvSpPr/>
          <p:nvPr/>
        </p:nvSpPr>
        <p:spPr>
          <a:xfrm>
            <a:off x="3368880" y="3184560"/>
            <a:ext cx="494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lasm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39"/>
          <p:cNvGrpSpPr/>
          <p:nvPr/>
        </p:nvGrpSpPr>
        <p:grpSpPr>
          <a:xfrm>
            <a:off x="3765240" y="2548080"/>
            <a:ext cx="591840" cy="307080"/>
            <a:chOff x="3765240" y="2548080"/>
            <a:chExt cx="591840" cy="307080"/>
          </a:xfrm>
        </p:grpSpPr>
        <p:sp>
          <p:nvSpPr>
            <p:cNvPr id="554" name="Rectangle 8"/>
            <p:cNvSpPr/>
            <p:nvPr/>
          </p:nvSpPr>
          <p:spPr>
            <a:xfrm>
              <a:off x="3765240" y="255564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8"/>
            <p:cNvSpPr/>
            <p:nvPr/>
          </p:nvSpPr>
          <p:spPr>
            <a:xfrm>
              <a:off x="3862440" y="2548080"/>
              <a:ext cx="49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lasmi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olat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40"/>
          <p:cNvGrpSpPr/>
          <p:nvPr/>
        </p:nvGrpSpPr>
        <p:grpSpPr>
          <a:xfrm>
            <a:off x="4620960" y="2978280"/>
            <a:ext cx="813960" cy="307080"/>
            <a:chOff x="4620960" y="2978280"/>
            <a:chExt cx="813960" cy="307080"/>
          </a:xfrm>
        </p:grpSpPr>
        <p:sp>
          <p:nvSpPr>
            <p:cNvPr id="557" name="Rectangle 9"/>
            <p:cNvSpPr/>
            <p:nvPr/>
          </p:nvSpPr>
          <p:spPr>
            <a:xfrm>
              <a:off x="4620960" y="298908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9"/>
            <p:cNvSpPr/>
            <p:nvPr/>
          </p:nvSpPr>
          <p:spPr>
            <a:xfrm>
              <a:off x="4702680" y="2978280"/>
              <a:ext cx="73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ene insert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o plasmi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41"/>
          <p:cNvGrpSpPr/>
          <p:nvPr/>
        </p:nvGrpSpPr>
        <p:grpSpPr>
          <a:xfrm>
            <a:off x="5655960" y="2752560"/>
            <a:ext cx="596160" cy="307080"/>
            <a:chOff x="5655960" y="2752560"/>
            <a:chExt cx="596160" cy="307080"/>
          </a:xfrm>
        </p:grpSpPr>
        <p:sp>
          <p:nvSpPr>
            <p:cNvPr id="560" name="Rectangle 10"/>
            <p:cNvSpPr/>
            <p:nvPr/>
          </p:nvSpPr>
          <p:spPr>
            <a:xfrm>
              <a:off x="5655960" y="276372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20"/>
            <p:cNvSpPr/>
            <p:nvPr/>
          </p:nvSpPr>
          <p:spPr>
            <a:xfrm>
              <a:off x="5768280" y="2752560"/>
              <a:ext cx="48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olat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Rectangle 21"/>
          <p:cNvSpPr/>
          <p:nvPr/>
        </p:nvSpPr>
        <p:spPr>
          <a:xfrm>
            <a:off x="6144480" y="2514600"/>
            <a:ext cx="97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ell containing ge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f inter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22"/>
          <p:cNvSpPr/>
          <p:nvPr/>
        </p:nvSpPr>
        <p:spPr>
          <a:xfrm>
            <a:off x="6393600" y="3376440"/>
            <a:ext cx="36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3"/>
          <p:cNvSpPr/>
          <p:nvPr/>
        </p:nvSpPr>
        <p:spPr>
          <a:xfrm>
            <a:off x="6531120" y="3054240"/>
            <a:ext cx="0" cy="31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4"/>
          <p:cNvSpPr/>
          <p:nvPr/>
        </p:nvSpPr>
        <p:spPr>
          <a:xfrm>
            <a:off x="5695200" y="3470400"/>
            <a:ext cx="49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ene o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25"/>
          <p:cNvSpPr/>
          <p:nvPr/>
        </p:nvSpPr>
        <p:spPr>
          <a:xfrm>
            <a:off x="5533920" y="3321000"/>
            <a:ext cx="201600" cy="19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6"/>
          <p:cNvSpPr/>
          <p:nvPr/>
        </p:nvSpPr>
        <p:spPr>
          <a:xfrm>
            <a:off x="3900600" y="3367080"/>
            <a:ext cx="91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plasmid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Group 42"/>
          <p:cNvGrpSpPr/>
          <p:nvPr/>
        </p:nvGrpSpPr>
        <p:grpSpPr>
          <a:xfrm>
            <a:off x="4910040" y="3587760"/>
            <a:ext cx="906480" cy="307080"/>
            <a:chOff x="4910040" y="3587760"/>
            <a:chExt cx="906480" cy="307080"/>
          </a:xfrm>
        </p:grpSpPr>
        <p:sp>
          <p:nvSpPr>
            <p:cNvPr id="569" name="Rectangle 11"/>
            <p:cNvSpPr/>
            <p:nvPr/>
          </p:nvSpPr>
          <p:spPr>
            <a:xfrm>
              <a:off x="4910040" y="360504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27"/>
            <p:cNvSpPr/>
            <p:nvPr/>
          </p:nvSpPr>
          <p:spPr>
            <a:xfrm>
              <a:off x="5009400" y="3587760"/>
              <a:ext cx="80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lasmid put in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acterial cel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Rectangle 28"/>
          <p:cNvSpPr/>
          <p:nvPr/>
        </p:nvSpPr>
        <p:spPr>
          <a:xfrm>
            <a:off x="3880440" y="39052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combina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acteri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43"/>
          <p:cNvGrpSpPr/>
          <p:nvPr/>
        </p:nvGrpSpPr>
        <p:grpSpPr>
          <a:xfrm>
            <a:off x="4908240" y="4243320"/>
            <a:ext cx="1000800" cy="307080"/>
            <a:chOff x="4908240" y="4243320"/>
            <a:chExt cx="1000800" cy="307080"/>
          </a:xfrm>
        </p:grpSpPr>
        <p:sp>
          <p:nvSpPr>
            <p:cNvPr id="573" name="Rectangle 12"/>
            <p:cNvSpPr/>
            <p:nvPr/>
          </p:nvSpPr>
          <p:spPr>
            <a:xfrm>
              <a:off x="4908240" y="4252680"/>
              <a:ext cx="22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9"/>
            <p:cNvSpPr/>
            <p:nvPr/>
          </p:nvSpPr>
          <p:spPr>
            <a:xfrm>
              <a:off x="5002920" y="4243320"/>
              <a:ext cx="90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ell multiplies wit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ene of intere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Rectangle 30"/>
          <p:cNvSpPr/>
          <p:nvPr/>
        </p:nvSpPr>
        <p:spPr>
          <a:xfrm>
            <a:off x="5313600" y="4637160"/>
            <a:ext cx="845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pies of prote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1"/>
          <p:cNvSpPr/>
          <p:nvPr/>
        </p:nvSpPr>
        <p:spPr>
          <a:xfrm>
            <a:off x="3816000" y="4627440"/>
            <a:ext cx="772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pies of ge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2"/>
          <p:cNvSpPr/>
          <p:nvPr/>
        </p:nvSpPr>
        <p:spPr>
          <a:xfrm>
            <a:off x="4540320" y="5175360"/>
            <a:ext cx="709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one of cell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33"/>
          <p:cNvSpPr/>
          <p:nvPr/>
        </p:nvSpPr>
        <p:spPr>
          <a:xfrm>
            <a:off x="2911680" y="5199120"/>
            <a:ext cx="71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ene for p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serted int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4"/>
          <p:cNvSpPr/>
          <p:nvPr/>
        </p:nvSpPr>
        <p:spPr>
          <a:xfrm>
            <a:off x="3525840" y="592596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ene used to alter bacter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or cleaning up toxic wast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35"/>
          <p:cNvSpPr/>
          <p:nvPr/>
        </p:nvSpPr>
        <p:spPr>
          <a:xfrm>
            <a:off x="5063040" y="59310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tein used to dissolve blood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ots in heart attack therap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36"/>
          <p:cNvSpPr/>
          <p:nvPr/>
        </p:nvSpPr>
        <p:spPr>
          <a:xfrm>
            <a:off x="6230880" y="5213520"/>
            <a:ext cx="82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tein used to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ke snow form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t higher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45"/>
          <p:cNvSpPr/>
          <p:nvPr/>
        </p:nvSpPr>
        <p:spPr>
          <a:xfrm>
            <a:off x="1241640" y="586260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2.17 The science of genomics compares whole genom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equencing of many prokaryotic and eukaryotic genom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Has produced data for genomics, the study of whole genom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lasmi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lasmids are small circular DNA molecuels that replicate separatelu from the much larger bacterial chromosom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ecause plasmids can carry virtually any gene and replicate in bacteria, they are key tools for gene clon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334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f the recombinant bacteria multiply into a clon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814400" indent="-5331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he foreign genes are also copie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4b6d2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does the rapid reproduction of bacteria make them a good choice for cloning a foreign gen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12.2 Enzymes are used to “cut and paste” DNA </a:t>
            </a:r>
            <a:br>
              <a:rPr sz="2600"/>
            </a:b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92" name="Picture 5" descr="_x000b_12_02_U.jpg                                                    0051B33B_x0003_203                            BE738D99:"/>
          <p:cNvPicPr/>
          <p:nvPr/>
        </p:nvPicPr>
        <p:blipFill>
          <a:blip r:embed="rId1"/>
          <a:stretch/>
        </p:blipFill>
        <p:spPr>
          <a:xfrm>
            <a:off x="3228840" y="2001960"/>
            <a:ext cx="2859120" cy="4410000"/>
          </a:xfrm>
          <a:prstGeom prst="rect">
            <a:avLst/>
          </a:prstGeom>
          <a:ln w="0">
            <a:noFill/>
          </a:ln>
        </p:spPr>
      </p:pic>
      <p:sp>
        <p:nvSpPr>
          <p:cNvPr id="593" name="AutoShape 6"/>
          <p:cNvSpPr/>
          <p:nvPr/>
        </p:nvSpPr>
        <p:spPr>
          <a:xfrm rot="16200000">
            <a:off x="4611600" y="1660320"/>
            <a:ext cx="154080" cy="801720"/>
          </a:xfrm>
          <a:custGeom>
            <a:avLst/>
            <a:gdLst>
              <a:gd name="textAreaLeft" fmla="*/ 0 w 154080"/>
              <a:gd name="textAreaRight" fmla="*/ 55440 w 154080"/>
              <a:gd name="textAreaTop" fmla="*/ 20880 h 801720"/>
              <a:gd name="textAreaBottom" fmla="*/ 780840 h 80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4089240" y="163656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triction enzyme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ognition sequ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8"/>
          <p:cNvSpPr/>
          <p:nvPr/>
        </p:nvSpPr>
        <p:spPr>
          <a:xfrm>
            <a:off x="4363560" y="2100240"/>
            <a:ext cx="6609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 A A T T 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 T T A A 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9"/>
          <p:cNvSpPr/>
          <p:nvPr/>
        </p:nvSpPr>
        <p:spPr>
          <a:xfrm>
            <a:off x="3585600" y="211788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0"/>
          <p:cNvSpPr/>
          <p:nvPr/>
        </p:nvSpPr>
        <p:spPr>
          <a:xfrm>
            <a:off x="3306960" y="21366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1"/>
          <p:cNvSpPr/>
          <p:nvPr/>
        </p:nvSpPr>
        <p:spPr>
          <a:xfrm>
            <a:off x="3308760" y="320364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2"/>
          <p:cNvSpPr/>
          <p:nvPr/>
        </p:nvSpPr>
        <p:spPr>
          <a:xfrm>
            <a:off x="4705560" y="3809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3"/>
          <p:cNvSpPr/>
          <p:nvPr/>
        </p:nvSpPr>
        <p:spPr>
          <a:xfrm>
            <a:off x="3304080" y="49417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4"/>
          <p:cNvSpPr/>
          <p:nvPr/>
        </p:nvSpPr>
        <p:spPr>
          <a:xfrm rot="21211800">
            <a:off x="4081680" y="3184560"/>
            <a:ext cx="567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 T T A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5"/>
          <p:cNvSpPr/>
          <p:nvPr/>
        </p:nvSpPr>
        <p:spPr>
          <a:xfrm rot="5058000">
            <a:off x="4359240" y="3231720"/>
            <a:ext cx="92160" cy="349200"/>
          </a:xfrm>
          <a:custGeom>
            <a:avLst/>
            <a:gdLst>
              <a:gd name="textAreaLeft" fmla="*/ 0 w 92160"/>
              <a:gd name="textAreaRight" fmla="*/ 33120 w 92160"/>
              <a:gd name="textAreaTop" fmla="*/ 9000 h 349200"/>
              <a:gd name="textAreaBottom" fmla="*/ 34020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6"/>
          <p:cNvSpPr/>
          <p:nvPr/>
        </p:nvSpPr>
        <p:spPr>
          <a:xfrm rot="361800">
            <a:off x="4726440" y="3084480"/>
            <a:ext cx="519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 AT T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7"/>
          <p:cNvSpPr/>
          <p:nvPr/>
        </p:nvSpPr>
        <p:spPr>
          <a:xfrm rot="301200">
            <a:off x="4726440" y="369108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 AT T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8"/>
          <p:cNvSpPr/>
          <p:nvPr/>
        </p:nvSpPr>
        <p:spPr>
          <a:xfrm rot="253800">
            <a:off x="5457600" y="3884760"/>
            <a:ext cx="567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 T T A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9"/>
          <p:cNvSpPr/>
          <p:nvPr/>
        </p:nvSpPr>
        <p:spPr>
          <a:xfrm>
            <a:off x="3479040" y="3762360"/>
            <a:ext cx="1093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dition of a DNA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agment from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other sour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20"/>
          <p:cNvSpPr/>
          <p:nvPr/>
        </p:nvSpPr>
        <p:spPr>
          <a:xfrm>
            <a:off x="3478680" y="425772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wo (or more)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agments stick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gether by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se-pai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1"/>
          <p:cNvSpPr/>
          <p:nvPr/>
        </p:nvSpPr>
        <p:spPr>
          <a:xfrm>
            <a:off x="3974400" y="48862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 A AT T 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 T TA A 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22"/>
          <p:cNvSpPr/>
          <p:nvPr/>
        </p:nvSpPr>
        <p:spPr>
          <a:xfrm>
            <a:off x="4860000" y="48909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 A AT T 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 T TA A 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3"/>
          <p:cNvSpPr/>
          <p:nvPr/>
        </p:nvSpPr>
        <p:spPr>
          <a:xfrm>
            <a:off x="3306960" y="60786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4"/>
          <p:cNvSpPr/>
          <p:nvPr/>
        </p:nvSpPr>
        <p:spPr>
          <a:xfrm>
            <a:off x="3476160" y="54849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NA lig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stes the str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5"/>
          <p:cNvSpPr/>
          <p:nvPr/>
        </p:nvSpPr>
        <p:spPr>
          <a:xfrm>
            <a:off x="3470040" y="2498760"/>
            <a:ext cx="11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triction enzyme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uts the DNA into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ag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6"/>
          <p:cNvSpPr/>
          <p:nvPr/>
        </p:nvSpPr>
        <p:spPr>
          <a:xfrm>
            <a:off x="3942000" y="6296040"/>
            <a:ext cx="162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ombinant DNA molec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7"/>
          <p:cNvSpPr/>
          <p:nvPr/>
        </p:nvSpPr>
        <p:spPr>
          <a:xfrm rot="21527400">
            <a:off x="4123080" y="3093840"/>
            <a:ext cx="24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8"/>
          <p:cNvSpPr/>
          <p:nvPr/>
        </p:nvSpPr>
        <p:spPr>
          <a:xfrm rot="352800">
            <a:off x="4989600" y="3195720"/>
            <a:ext cx="24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9"/>
          <p:cNvSpPr/>
          <p:nvPr/>
        </p:nvSpPr>
        <p:spPr>
          <a:xfrm>
            <a:off x="4090320" y="3432240"/>
            <a:ext cx="712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icky 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0"/>
          <p:cNvSpPr/>
          <p:nvPr/>
        </p:nvSpPr>
        <p:spPr>
          <a:xfrm rot="214200">
            <a:off x="5519880" y="3774960"/>
            <a:ext cx="24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32"/>
          <p:cNvSpPr/>
          <p:nvPr/>
        </p:nvSpPr>
        <p:spPr>
          <a:xfrm>
            <a:off x="1660680" y="618012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31"/>
          <p:cNvSpPr/>
          <p:nvPr/>
        </p:nvSpPr>
        <p:spPr>
          <a:xfrm>
            <a:off x="733320" y="2971800"/>
            <a:ext cx="2381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0af"/>
                </a:solidFill>
                <a:latin typeface="Arial"/>
              </a:rPr>
              <a:t>Creating recombinant DNA using </a:t>
            </a:r>
            <a:r>
              <a:rPr b="0" i="1" lang="en-US" sz="2200" spc="-1" strike="noStrike" u="sng">
                <a:solidFill>
                  <a:srgbClr val="0060af"/>
                </a:solidFill>
                <a:uFillTx/>
                <a:latin typeface="Arial"/>
              </a:rPr>
              <a:t>restriction enzymes </a:t>
            </a:r>
            <a:r>
              <a:rPr b="0" lang="en-US" sz="2200" spc="-1" strike="noStrike">
                <a:solidFill>
                  <a:srgbClr val="0060af"/>
                </a:solidFill>
                <a:latin typeface="Arial"/>
              </a:rPr>
              <a:t>and DNA lig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0:54:38Z</dcterms:created>
  <dc:creator>Christopher Delgado</dc:creator>
  <dc:description/>
  <dc:language>en-US</dc:language>
  <cp:lastModifiedBy>Tracey Hayden</cp:lastModifiedBy>
  <cp:lastPrinted>2005-04-07T10:27:46Z</cp:lastPrinted>
  <dcterms:modified xsi:type="dcterms:W3CDTF">2010-02-07T19:57:45Z</dcterms:modified>
  <cp:revision>544</cp:revision>
  <dc:subject/>
  <dc:title>Slide 1</dc:title>
</cp:coreProperties>
</file>